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13.png" ContentType="image/png"/>
  <Override PartName="/ppt/media/image6.jpeg" ContentType="image/jpeg"/>
  <Override PartName="/ppt/media/image5.wmf" ContentType="image/x-wmf"/>
  <Override PartName="/ppt/media/image10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3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5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642100" cy="9766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339560" y="934560"/>
            <a:ext cx="6476760" cy="468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9560" y="934560"/>
            <a:ext cx="6476760" cy="100980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700" spc="-1" strike="noStrike">
                <a:solidFill>
                  <a:srgbClr val="8be8f4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hyperlink" Target="http://www.humpath.com/IMG/jpg/normal_nasal_mucosa_06_8-4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6.wmf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image" Target="../media/image21.png"/><Relationship Id="rId12" Type="http://schemas.openxmlformats.org/officeDocument/2006/relationships/image" Target="../media/image21.png"/><Relationship Id="rId13" Type="http://schemas.openxmlformats.org/officeDocument/2006/relationships/image" Target="../media/image21.png"/><Relationship Id="rId1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395280" y="1555920"/>
            <a:ext cx="38163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A cura di: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Giovanni Passalacqua (chair),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M.Beatrice Bilò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Floriano Bonifazi,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Sergio Bonini,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Marina Braga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Megon Bresciani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G.Walter Canonica,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Nunzio Crimi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Alessandro Fiocchi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Claudia Gramiccioni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Gianna Moscato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Roberto Paganelli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Angelo Passaleva,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Desiderio Passal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Gianenerico Senna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466560" y="833400"/>
            <a:ext cx="67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GGIORNAMENTO ITALIA 2006</a:t>
            </a:r>
            <a:endParaRPr b="0" lang="en-US" sz="32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4067280" y="1843200"/>
            <a:ext cx="388944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7777080" cy="47570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 fontScale="99000"/>
          </a:bodyPr>
          <a:p>
            <a:pPr marL="388080" indent="0" algn="ctr">
              <a:lnSpc>
                <a:spcPct val="87000"/>
              </a:lnSpc>
              <a:spcBef>
                <a:spcPts val="41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41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41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1- Perche’ ARIA ?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2 - Nuova classificazione della rinit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3 - Importanza dell’infiammazione nas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4 - Trattamento basato sull’evidenza speriment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5 - Impatto della rinite sull’ asma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52480" y="934560"/>
            <a:ext cx="260280" cy="14889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3700" spc="-1" strike="noStrike">
                <a:solidFill>
                  <a:srgbClr val="8be8f4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3700" spc="-1" strike="noStrike">
                <a:solidFill>
                  <a:srgbClr val="8be8f4"/>
                </a:solidFill>
                <a:latin typeface="Arial"/>
              </a:rPr>
              <a:t> </a:t>
            </a: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7553520" cy="41144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100000"/>
              </a:lnSpc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3300" spc="-1" strike="noStrike">
                <a:solidFill>
                  <a:srgbClr val="063de8"/>
                </a:solidFill>
                <a:latin typeface="Arial"/>
              </a:rPr>
              <a:t>La classificazione della rinite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100000"/>
              </a:lnSpc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3300" spc="-1" strike="noStrike">
                <a:solidFill>
                  <a:srgbClr val="063de8"/>
                </a:solidFill>
                <a:latin typeface="Arial"/>
              </a:rPr>
              <a:t>allergica in "</a:t>
            </a:r>
            <a:r>
              <a:rPr b="1" i="1" lang="en-US" sz="3300" spc="-1" strike="noStrike">
                <a:solidFill>
                  <a:srgbClr val="063de8"/>
                </a:solidFill>
                <a:latin typeface="Arial"/>
              </a:rPr>
              <a:t>stagionale</a:t>
            </a:r>
            <a:r>
              <a:rPr b="1" lang="en-US" sz="3300" spc="-1" strike="noStrike">
                <a:solidFill>
                  <a:srgbClr val="063de8"/>
                </a:solidFill>
                <a:latin typeface="Arial"/>
              </a:rPr>
              <a:t>" e "</a:t>
            </a:r>
            <a:r>
              <a:rPr b="1" i="1" lang="en-US" sz="3300" spc="-1" strike="noStrike">
                <a:solidFill>
                  <a:srgbClr val="063de8"/>
                </a:solidFill>
                <a:latin typeface="Arial"/>
              </a:rPr>
              <a:t>perenne</a:t>
            </a:r>
            <a:r>
              <a:rPr b="1" lang="en-US" sz="3300" spc="-1" strike="noStrike">
                <a:solidFill>
                  <a:srgbClr val="063de8"/>
                </a:solidFill>
                <a:latin typeface="Arial"/>
              </a:rPr>
              <a:t>" 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è stata modificata in: 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100000"/>
              </a:lnSpc>
              <a:spcBef>
                <a:spcPts val="412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inite allergica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intermittente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e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i="1" lang="en-US" sz="3300" spc="-1" strike="noStrike">
                <a:solidFill>
                  <a:srgbClr val="000000"/>
                </a:solidFill>
                <a:latin typeface="Arial"/>
              </a:rPr>
              <a:t>persistente</a:t>
            </a: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0" y="914400"/>
            <a:ext cx="4211640" cy="3618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6496200" y="6480000"/>
            <a:ext cx="690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Mesi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4428360" y="2716200"/>
            <a:ext cx="4714560" cy="3881880"/>
            <a:chOff x="4428360" y="2716200"/>
            <a:chExt cx="4714560" cy="3881880"/>
          </a:xfrm>
        </p:grpSpPr>
        <p:sp>
          <p:nvSpPr>
            <p:cNvPr id="319" name=""/>
            <p:cNvSpPr/>
            <p:nvPr/>
          </p:nvSpPr>
          <p:spPr>
            <a:xfrm>
              <a:off x="5595840" y="5397480"/>
              <a:ext cx="22478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5160" rIns="65160" tIns="25560" bIns="25560" anchor="t">
              <a:spAutoFit/>
            </a:bodyPr>
            <a:p>
              <a:pPr algn="ctr">
                <a:lnSpc>
                  <a:spcPct val="87000"/>
                </a:lnSpc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1" lang="it-IT" sz="2500" spc="-1" strike="noStrike">
                  <a:solidFill>
                    <a:srgbClr val="000000"/>
                  </a:solidFill>
                  <a:latin typeface="Arial"/>
                </a:rPr>
                <a:t>theshold level</a:t>
              </a:r>
              <a:endParaRPr b="0" lang="en-US" sz="25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87000"/>
                </a:lnSpc>
                <a:tabLst>
                  <a:tab algn="l" pos="0"/>
                  <a:tab algn="l" pos="784080"/>
                  <a:tab algn="l" pos="1568520"/>
                  <a:tab algn="l" pos="2352600"/>
                  <a:tab algn="l" pos="3137040"/>
                  <a:tab algn="l" pos="3921120"/>
                  <a:tab algn="l" pos="4705200"/>
                  <a:tab algn="l" pos="5489640"/>
                  <a:tab algn="l" pos="6273720"/>
                  <a:tab algn="l" pos="7058160"/>
                  <a:tab algn="l" pos="7842240"/>
                  <a:tab algn="l" pos="8626320"/>
                  <a:tab algn="l" pos="9410760"/>
                  <a:tab algn="l" pos="10194840"/>
                </a:tabLst>
              </a:pPr>
              <a:r>
                <a:rPr b="1" lang="it-IT" sz="2500" spc="-1" strike="noStrike">
                  <a:solidFill>
                    <a:srgbClr val="000000"/>
                  </a:solidFill>
                  <a:latin typeface="Arial"/>
                </a:rPr>
                <a:t>for symptoms</a:t>
              </a:r>
              <a:endParaRPr b="0" lang="en-US" sz="2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929120" y="2843280"/>
              <a:ext cx="3898800" cy="3340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937040" y="2854440"/>
              <a:ext cx="3890880" cy="332892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886280" y="6205680"/>
              <a:ext cx="38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886280" y="4529160"/>
              <a:ext cx="38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886280" y="2854440"/>
              <a:ext cx="381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902120" y="570060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902120" y="540216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902120" y="519588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902120" y="503388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902120" y="489744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902120" y="478296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902120" y="469116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902120" y="461016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902120" y="402444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902120" y="372744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902120" y="351936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902120" y="335916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902120" y="322092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902120" y="311796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902120" y="301464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902120" y="2935440"/>
              <a:ext cx="2232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4929120" y="2854080"/>
              <a:ext cx="0" cy="335124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93704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25924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58972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91192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24348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56604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9436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1692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3912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7068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19144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2336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845560" y="6205680"/>
              <a:ext cx="0" cy="5076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29120" y="6205680"/>
              <a:ext cx="3911760" cy="0"/>
            </a:xfrm>
            <a:prstGeom prst="line">
              <a:avLst/>
            </a:prstGeom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224320" y="3473280"/>
              <a:ext cx="44640" cy="5904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234040" y="3484440"/>
              <a:ext cx="34920" cy="4788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556240" y="3314880"/>
              <a:ext cx="42840" cy="568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564160" y="3325680"/>
              <a:ext cx="34920" cy="4608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877000" y="3978360"/>
              <a:ext cx="44280" cy="586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886360" y="3989520"/>
              <a:ext cx="34920" cy="4752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08560" y="4645080"/>
              <a:ext cx="44640" cy="586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216480" y="4656240"/>
              <a:ext cx="36720" cy="4752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531120" y="4989600"/>
              <a:ext cx="42840" cy="5724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539040" y="5000760"/>
              <a:ext cx="34920" cy="4608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861240" y="4737240"/>
              <a:ext cx="42840" cy="568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869160" y="4748040"/>
              <a:ext cx="34920" cy="4788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182000" y="2968560"/>
              <a:ext cx="44280" cy="586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191360" y="2979720"/>
              <a:ext cx="34920" cy="4752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504200" y="2889360"/>
              <a:ext cx="44280" cy="568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13560" y="2900520"/>
              <a:ext cx="34920" cy="4572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835760" y="2889360"/>
              <a:ext cx="42840" cy="568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843680" y="2900520"/>
              <a:ext cx="34920" cy="4572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158320" y="3819600"/>
              <a:ext cx="42840" cy="5724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66240" y="3830760"/>
              <a:ext cx="34920" cy="4608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488440" y="3473280"/>
              <a:ext cx="44280" cy="5904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96360" y="3484440"/>
              <a:ext cx="36360" cy="4788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810640" y="3978360"/>
              <a:ext cx="42840" cy="58680"/>
            </a:xfrm>
            <a:prstGeom prst="ellipse">
              <a:avLst/>
            </a:prstGeom>
            <a:solidFill>
              <a:srgbClr val="f6bf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818560" y="3989520"/>
              <a:ext cx="36360" cy="47520"/>
            </a:xfrm>
            <a:prstGeom prst="ellipse">
              <a:avLst/>
            </a:prstGeom>
            <a:noFill/>
            <a:ln w="25560">
              <a:solidFill>
                <a:srgbClr val="f6bf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716360" y="602604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72360" y="4390920"/>
              <a:ext cx="36432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428360" y="2716200"/>
              <a:ext cx="455760" cy="28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3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78800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14980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48172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80392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13404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45624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78672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0892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43112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761240" y="6219720"/>
              <a:ext cx="31572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8040600" y="6219720"/>
              <a:ext cx="4496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8370720" y="6219720"/>
              <a:ext cx="4496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1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693280" y="6219720"/>
              <a:ext cx="449640" cy="37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54680" y="4462560"/>
              <a:ext cx="3865320" cy="1712880"/>
            </a:xfrm>
            <a:custGeom>
              <a:avLst/>
              <a:gdLst/>
              <a:ahLst/>
              <a:rect l="l" t="t" r="r" b="b"/>
              <a:pathLst>
                <a:path w="3653" h="559">
                  <a:moveTo>
                    <a:pt x="0" y="558"/>
                  </a:moveTo>
                  <a:lnTo>
                    <a:pt x="3652" y="558"/>
                  </a:lnTo>
                  <a:lnTo>
                    <a:pt x="3652" y="0"/>
                  </a:ln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solidFill>
              <a:srgbClr val="a6a6a6"/>
            </a:solidFill>
            <a:ln cap="rnd" w="25560">
              <a:solidFill>
                <a:srgbClr val="a6a6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259240" y="2933640"/>
              <a:ext cx="3586320" cy="2102040"/>
            </a:xfrm>
            <a:custGeom>
              <a:avLst/>
              <a:gdLst/>
              <a:ahLst/>
              <a:rect l="l" t="t" r="r" b="b"/>
              <a:pathLst>
                <a:path w="3382" h="1503">
                  <a:moveTo>
                    <a:pt x="0" y="419"/>
                  </a:moveTo>
                  <a:lnTo>
                    <a:pt x="312" y="304"/>
                  </a:lnTo>
                  <a:lnTo>
                    <a:pt x="616" y="780"/>
                  </a:lnTo>
                  <a:lnTo>
                    <a:pt x="928" y="1256"/>
                  </a:lnTo>
                  <a:lnTo>
                    <a:pt x="1231" y="1502"/>
                  </a:lnTo>
                  <a:lnTo>
                    <a:pt x="1543" y="1321"/>
                  </a:lnTo>
                  <a:lnTo>
                    <a:pt x="1847" y="58"/>
                  </a:lnTo>
                  <a:lnTo>
                    <a:pt x="2150" y="0"/>
                  </a:lnTo>
                  <a:lnTo>
                    <a:pt x="2462" y="0"/>
                  </a:lnTo>
                  <a:lnTo>
                    <a:pt x="2766" y="665"/>
                  </a:lnTo>
                  <a:lnTo>
                    <a:pt x="3078" y="419"/>
                  </a:lnTo>
                  <a:lnTo>
                    <a:pt x="3381" y="780"/>
                  </a:lnTo>
                </a:path>
              </a:pathLst>
            </a:custGeom>
            <a:noFill/>
            <a:ln cap="rnd" w="50760">
              <a:solidFill>
                <a:srgbClr val="f6bf6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086520" y="5254560"/>
              <a:ext cx="1789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Livello soglia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i sintomi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626360" y="1000080"/>
            <a:ext cx="2859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Nel caso di allergeni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pollinici, l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ovrapposizione delle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stagioni può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causare sintomi protratti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4284360" y="1916280"/>
            <a:ext cx="38163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79280" y="4653000"/>
            <a:ext cx="44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Nel caso di allergeni “perenni” (es.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Acari) il livello ambientale fluttua 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uò scendere tanto da non provocare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sintomi anche per periodi lunghi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26920" y="5877000"/>
            <a:ext cx="381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4500360" y="2492280"/>
            <a:ext cx="3816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80880" y="1828800"/>
            <a:ext cx="8305920" cy="4648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-11160" y="2813040"/>
            <a:ext cx="8187840" cy="3611520"/>
            <a:chOff x="-11160" y="2813040"/>
            <a:chExt cx="8187840" cy="3611520"/>
          </a:xfrm>
        </p:grpSpPr>
        <p:sp>
          <p:nvSpPr>
            <p:cNvPr id="406" name=""/>
            <p:cNvSpPr/>
            <p:nvPr/>
          </p:nvSpPr>
          <p:spPr>
            <a:xfrm>
              <a:off x="-11160" y="2847960"/>
              <a:ext cx="9720" cy="22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-5760" y="2852640"/>
              <a:ext cx="828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01960" y="5276880"/>
              <a:ext cx="4217760" cy="34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01960" y="5504040"/>
              <a:ext cx="4217760" cy="9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8168400" y="3670200"/>
              <a:ext cx="8280" cy="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i="1" lang="en-US" sz="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021040" y="2813040"/>
              <a:ext cx="4198680" cy="1282680"/>
            </a:xfrm>
            <a:prstGeom prst="rect">
              <a:avLst/>
            </a:prstGeom>
            <a:solidFill>
              <a:srgbClr val="11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001960" y="4084560"/>
              <a:ext cx="4186080" cy="1800"/>
            </a:xfrm>
            <a:prstGeom prst="line">
              <a:avLst/>
            </a:prstGeom>
            <a:ln w="39600">
              <a:solidFill>
                <a:srgbClr val="0c0c0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001960" y="4084560"/>
              <a:ext cx="4186080" cy="1800"/>
            </a:xfrm>
            <a:prstGeom prst="line">
              <a:avLst/>
            </a:prstGeom>
            <a:ln w="39600">
              <a:solidFill>
                <a:srgbClr val="0e0e0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01960" y="4095720"/>
              <a:ext cx="4186080" cy="1440"/>
            </a:xfrm>
            <a:prstGeom prst="line">
              <a:avLst/>
            </a:prstGeom>
            <a:ln w="39600">
              <a:solidFill>
                <a:srgbClr val="1010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1960" y="4095720"/>
              <a:ext cx="4186080" cy="1440"/>
            </a:xfrm>
            <a:prstGeom prst="line">
              <a:avLst/>
            </a:prstGeom>
            <a:ln w="39600">
              <a:solidFill>
                <a:srgbClr val="12121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001960" y="4108320"/>
              <a:ext cx="4186080" cy="1800"/>
            </a:xfrm>
            <a:prstGeom prst="line">
              <a:avLst/>
            </a:prstGeom>
            <a:ln w="39600">
              <a:solidFill>
                <a:srgbClr val="1313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001960" y="4108320"/>
              <a:ext cx="4186080" cy="1800"/>
            </a:xfrm>
            <a:prstGeom prst="line">
              <a:avLst/>
            </a:prstGeom>
            <a:ln w="39600">
              <a:solidFill>
                <a:srgbClr val="15151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001960" y="4108320"/>
              <a:ext cx="4186080" cy="1800"/>
            </a:xfrm>
            <a:prstGeom prst="line">
              <a:avLst/>
            </a:prstGeom>
            <a:ln w="39600">
              <a:solidFill>
                <a:srgbClr val="17171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001960" y="4119480"/>
              <a:ext cx="4186080" cy="1800"/>
            </a:xfrm>
            <a:prstGeom prst="line">
              <a:avLst/>
            </a:prstGeom>
            <a:ln w="39600">
              <a:solidFill>
                <a:srgbClr val="19191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01960" y="4130640"/>
              <a:ext cx="4186080" cy="1800"/>
            </a:xfrm>
            <a:prstGeom prst="line">
              <a:avLst/>
            </a:prstGeom>
            <a:ln w="39600">
              <a:solidFill>
                <a:srgbClr val="1b1b1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001960" y="4130640"/>
              <a:ext cx="4186080" cy="1800"/>
            </a:xfrm>
            <a:prstGeom prst="line">
              <a:avLst/>
            </a:prstGeom>
            <a:ln w="39600">
              <a:solidFill>
                <a:srgbClr val="1c1c1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001960" y="4141800"/>
              <a:ext cx="4186080" cy="1440"/>
            </a:xfrm>
            <a:prstGeom prst="line">
              <a:avLst/>
            </a:prstGeom>
            <a:ln w="39600">
              <a:solidFill>
                <a:srgbClr val="1e1e1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001960" y="4152960"/>
              <a:ext cx="4186080" cy="1440"/>
            </a:xfrm>
            <a:prstGeom prst="line">
              <a:avLst/>
            </a:prstGeom>
            <a:ln w="39600">
              <a:solidFill>
                <a:srgbClr val="20202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01960" y="4152960"/>
              <a:ext cx="4186080" cy="1440"/>
            </a:xfrm>
            <a:prstGeom prst="line">
              <a:avLst/>
            </a:prstGeom>
            <a:ln w="39600">
              <a:solidFill>
                <a:srgbClr val="22222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001960" y="4164120"/>
              <a:ext cx="4186080" cy="1440"/>
            </a:xfrm>
            <a:prstGeom prst="line">
              <a:avLst/>
            </a:prstGeom>
            <a:ln w="39600">
              <a:solidFill>
                <a:srgbClr val="23232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001960" y="4164120"/>
              <a:ext cx="4186080" cy="1440"/>
            </a:xfrm>
            <a:prstGeom prst="line">
              <a:avLst/>
            </a:prstGeom>
            <a:ln w="39600">
              <a:solidFill>
                <a:srgbClr val="25252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001960" y="4175280"/>
              <a:ext cx="4186080" cy="1440"/>
            </a:xfrm>
            <a:prstGeom prst="line">
              <a:avLst/>
            </a:prstGeom>
            <a:ln w="39600">
              <a:solidFill>
                <a:srgbClr val="2727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1960" y="4187880"/>
              <a:ext cx="4186080" cy="1440"/>
            </a:xfrm>
            <a:prstGeom prst="line">
              <a:avLst/>
            </a:prstGeom>
            <a:ln w="3960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001960" y="4187880"/>
              <a:ext cx="4186080" cy="1440"/>
            </a:xfrm>
            <a:prstGeom prst="line">
              <a:avLst/>
            </a:prstGeom>
            <a:ln w="39600">
              <a:solidFill>
                <a:srgbClr val="2b2b2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001960" y="4199040"/>
              <a:ext cx="4186080" cy="1440"/>
            </a:xfrm>
            <a:prstGeom prst="line">
              <a:avLst/>
            </a:prstGeom>
            <a:ln w="39600">
              <a:solidFill>
                <a:srgbClr val="2c2c2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001960" y="4210200"/>
              <a:ext cx="4186080" cy="1440"/>
            </a:xfrm>
            <a:prstGeom prst="line">
              <a:avLst/>
            </a:prstGeom>
            <a:ln w="39600">
              <a:solidFill>
                <a:srgbClr val="2e2e2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001960" y="4210200"/>
              <a:ext cx="4186080" cy="1440"/>
            </a:xfrm>
            <a:prstGeom prst="line">
              <a:avLst/>
            </a:prstGeom>
            <a:ln w="39600">
              <a:solidFill>
                <a:srgbClr val="303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01960" y="4221000"/>
              <a:ext cx="4186080" cy="1800"/>
            </a:xfrm>
            <a:prstGeom prst="line">
              <a:avLst/>
            </a:prstGeom>
            <a:ln w="39600">
              <a:solidFill>
                <a:srgbClr val="32323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001960" y="4232160"/>
              <a:ext cx="4186080" cy="1800"/>
            </a:xfrm>
            <a:prstGeom prst="line">
              <a:avLst/>
            </a:prstGeom>
            <a:ln w="3960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001960" y="4232160"/>
              <a:ext cx="4186080" cy="1800"/>
            </a:xfrm>
            <a:prstGeom prst="line">
              <a:avLst/>
            </a:prstGeom>
            <a:ln w="39600">
              <a:solidFill>
                <a:srgbClr val="35353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001960" y="4243320"/>
              <a:ext cx="4186080" cy="1800"/>
            </a:xfrm>
            <a:prstGeom prst="line">
              <a:avLst/>
            </a:prstGeom>
            <a:ln w="39600">
              <a:solidFill>
                <a:srgbClr val="3737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001960" y="4254480"/>
              <a:ext cx="4186080" cy="1440"/>
            </a:xfrm>
            <a:prstGeom prst="line">
              <a:avLst/>
            </a:prstGeom>
            <a:ln w="39600">
              <a:solidFill>
                <a:srgbClr val="39393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001960" y="4254480"/>
              <a:ext cx="4186080" cy="1440"/>
            </a:xfrm>
            <a:prstGeom prst="line">
              <a:avLst/>
            </a:prstGeom>
            <a:ln w="39600">
              <a:solidFill>
                <a:srgbClr val="3b3b3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001960" y="4267080"/>
              <a:ext cx="4186080" cy="1800"/>
            </a:xfrm>
            <a:prstGeom prst="line">
              <a:avLst/>
            </a:prstGeom>
            <a:ln w="39600">
              <a:solidFill>
                <a:srgbClr val="3c3c3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001960" y="4267080"/>
              <a:ext cx="4186080" cy="1800"/>
            </a:xfrm>
            <a:prstGeom prst="line">
              <a:avLst/>
            </a:prstGeom>
            <a:ln w="39600">
              <a:solidFill>
                <a:srgbClr val="3e3e3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001960" y="4278240"/>
              <a:ext cx="4186080" cy="1800"/>
            </a:xfrm>
            <a:prstGeom prst="line">
              <a:avLst/>
            </a:prstGeom>
            <a:ln w="3960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001960" y="4289400"/>
              <a:ext cx="4186080" cy="1440"/>
            </a:xfrm>
            <a:prstGeom prst="line">
              <a:avLst/>
            </a:prstGeom>
            <a:ln w="39600">
              <a:solidFill>
                <a:srgbClr val="42424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001960" y="4289400"/>
              <a:ext cx="4186080" cy="1440"/>
            </a:xfrm>
            <a:prstGeom prst="line">
              <a:avLst/>
            </a:prstGeom>
            <a:ln w="39600">
              <a:solidFill>
                <a:srgbClr val="43434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001960" y="4300560"/>
              <a:ext cx="4186080" cy="1440"/>
            </a:xfrm>
            <a:prstGeom prst="line">
              <a:avLst/>
            </a:prstGeom>
            <a:ln w="39600">
              <a:solidFill>
                <a:srgbClr val="4545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001960" y="4311720"/>
              <a:ext cx="4186080" cy="1440"/>
            </a:xfrm>
            <a:prstGeom prst="line">
              <a:avLst/>
            </a:prstGeom>
            <a:ln w="3960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001960" y="4311720"/>
              <a:ext cx="4186080" cy="1440"/>
            </a:xfrm>
            <a:prstGeom prst="line">
              <a:avLst/>
            </a:prstGeom>
            <a:ln w="39600">
              <a:solidFill>
                <a:srgbClr val="49494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001960" y="4322880"/>
              <a:ext cx="4186080" cy="1440"/>
            </a:xfrm>
            <a:prstGeom prst="line">
              <a:avLst/>
            </a:prstGeom>
            <a:ln w="3960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001960" y="4322880"/>
              <a:ext cx="4186080" cy="1440"/>
            </a:xfrm>
            <a:prstGeom prst="line">
              <a:avLst/>
            </a:prstGeom>
            <a:ln w="3960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001960" y="4322880"/>
              <a:ext cx="4186080" cy="1440"/>
            </a:xfrm>
            <a:prstGeom prst="line">
              <a:avLst/>
            </a:prstGeom>
            <a:ln w="3960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001960" y="4335480"/>
              <a:ext cx="4186080" cy="1440"/>
            </a:xfrm>
            <a:prstGeom prst="line">
              <a:avLst/>
            </a:prstGeom>
            <a:ln w="39600">
              <a:solidFill>
                <a:srgbClr val="4e4e4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001960" y="4335480"/>
              <a:ext cx="4186080" cy="1440"/>
            </a:xfrm>
            <a:prstGeom prst="line">
              <a:avLst/>
            </a:prstGeom>
            <a:ln w="39600">
              <a:solidFill>
                <a:srgbClr val="4f4f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001960" y="4346640"/>
              <a:ext cx="4186080" cy="1440"/>
            </a:xfrm>
            <a:prstGeom prst="line">
              <a:avLst/>
            </a:prstGeom>
            <a:ln w="39600">
              <a:solidFill>
                <a:srgbClr val="51515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001960" y="4357800"/>
              <a:ext cx="4186080" cy="1440"/>
            </a:xfrm>
            <a:prstGeom prst="line">
              <a:avLst/>
            </a:prstGeom>
            <a:ln w="39600">
              <a:solidFill>
                <a:srgbClr val="52525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001960" y="4357800"/>
              <a:ext cx="4186080" cy="1440"/>
            </a:xfrm>
            <a:prstGeom prst="line">
              <a:avLst/>
            </a:prstGeom>
            <a:ln w="39600">
              <a:solidFill>
                <a:srgbClr val="5353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001960" y="4368960"/>
              <a:ext cx="4186080" cy="1440"/>
            </a:xfrm>
            <a:prstGeom prst="line">
              <a:avLst/>
            </a:prstGeom>
            <a:ln w="39600">
              <a:solidFill>
                <a:srgbClr val="5555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001960" y="4379760"/>
              <a:ext cx="4186080" cy="1800"/>
            </a:xfrm>
            <a:prstGeom prst="line">
              <a:avLst/>
            </a:prstGeom>
            <a:ln w="39600">
              <a:solidFill>
                <a:srgbClr val="5656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001960" y="4379760"/>
              <a:ext cx="4186080" cy="1800"/>
            </a:xfrm>
            <a:prstGeom prst="line">
              <a:avLst/>
            </a:prstGeom>
            <a:ln w="39600">
              <a:solidFill>
                <a:srgbClr val="58585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001960" y="4390920"/>
              <a:ext cx="4186080" cy="1800"/>
            </a:xfrm>
            <a:prstGeom prst="line">
              <a:avLst/>
            </a:prstGeom>
            <a:ln w="39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001960" y="4402080"/>
              <a:ext cx="4186080" cy="1800"/>
            </a:xfrm>
            <a:prstGeom prst="line">
              <a:avLst/>
            </a:prstGeom>
            <a:ln w="39600">
              <a:solidFill>
                <a:srgbClr val="5b5b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001960" y="4402080"/>
              <a:ext cx="4186080" cy="1800"/>
            </a:xfrm>
            <a:prstGeom prst="line">
              <a:avLst/>
            </a:prstGeom>
            <a:ln w="39600">
              <a:solidFill>
                <a:srgbClr val="5c5c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001960" y="4414680"/>
              <a:ext cx="4186080" cy="1800"/>
            </a:xfrm>
            <a:prstGeom prst="line">
              <a:avLst/>
            </a:prstGeom>
            <a:ln w="39600">
              <a:solidFill>
                <a:srgbClr val="5d5d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001960" y="4425840"/>
              <a:ext cx="4186080" cy="1800"/>
            </a:xfrm>
            <a:prstGeom prst="line">
              <a:avLst/>
            </a:prstGeom>
            <a:ln w="39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001960" y="4425840"/>
              <a:ext cx="4186080" cy="1800"/>
            </a:xfrm>
            <a:prstGeom prst="line">
              <a:avLst/>
            </a:prstGeom>
            <a:ln w="39600">
              <a:solidFill>
                <a:srgbClr val="606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001960" y="4437000"/>
              <a:ext cx="4186080" cy="1800"/>
            </a:xfrm>
            <a:prstGeom prst="line">
              <a:avLst/>
            </a:prstGeom>
            <a:ln w="39600">
              <a:solidFill>
                <a:srgbClr val="6262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001960" y="4437000"/>
              <a:ext cx="4186080" cy="1800"/>
            </a:xfrm>
            <a:prstGeom prst="line">
              <a:avLst/>
            </a:prstGeom>
            <a:ln w="39600">
              <a:solidFill>
                <a:srgbClr val="63636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001960" y="4448160"/>
              <a:ext cx="4186080" cy="1440"/>
            </a:xfrm>
            <a:prstGeom prst="line">
              <a:avLst/>
            </a:prstGeom>
            <a:ln w="39600">
              <a:solidFill>
                <a:srgbClr val="64646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001960" y="4459320"/>
              <a:ext cx="4186080" cy="1440"/>
            </a:xfrm>
            <a:prstGeom prst="line">
              <a:avLst/>
            </a:prstGeom>
            <a:ln w="39600">
              <a:solidFill>
                <a:srgbClr val="66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001960" y="4459320"/>
              <a:ext cx="4186080" cy="1440"/>
            </a:xfrm>
            <a:prstGeom prst="line">
              <a:avLst/>
            </a:prstGeom>
            <a:ln w="39600">
              <a:solidFill>
                <a:srgbClr val="6767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2001960" y="4470480"/>
              <a:ext cx="4186080" cy="1440"/>
            </a:xfrm>
            <a:prstGeom prst="line">
              <a:avLst/>
            </a:prstGeom>
            <a:ln w="39600">
              <a:solidFill>
                <a:srgbClr val="69696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001960" y="4483080"/>
              <a:ext cx="4186080" cy="1440"/>
            </a:xfrm>
            <a:prstGeom prst="line">
              <a:avLst/>
            </a:prstGeom>
            <a:ln w="39600">
              <a:solidFill>
                <a:srgbClr val="6a6a6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001960" y="4483080"/>
              <a:ext cx="4186080" cy="1440"/>
            </a:xfrm>
            <a:prstGeom prst="line">
              <a:avLst/>
            </a:prstGeom>
            <a:ln w="39600">
              <a:solidFill>
                <a:srgbClr val="6c6c6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01960" y="4494240"/>
              <a:ext cx="4186080" cy="1440"/>
            </a:xfrm>
            <a:prstGeom prst="line">
              <a:avLst/>
            </a:prstGeom>
            <a:ln w="39600">
              <a:solidFill>
                <a:srgbClr val="6d6d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001960" y="4505400"/>
              <a:ext cx="4186080" cy="1440"/>
            </a:xfrm>
            <a:prstGeom prst="line">
              <a:avLst/>
            </a:prstGeom>
            <a:ln w="39600">
              <a:solidFill>
                <a:srgbClr val="6e6e6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001960" y="4505400"/>
              <a:ext cx="4186080" cy="1440"/>
            </a:xfrm>
            <a:prstGeom prst="line">
              <a:avLst/>
            </a:prstGeom>
            <a:ln w="39600">
              <a:solidFill>
                <a:srgbClr val="70707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001960" y="4516560"/>
              <a:ext cx="4186080" cy="1440"/>
            </a:xfrm>
            <a:prstGeom prst="line">
              <a:avLst/>
            </a:prstGeom>
            <a:ln w="39600">
              <a:solidFill>
                <a:srgbClr val="71717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001960" y="4516560"/>
              <a:ext cx="4186080" cy="1440"/>
            </a:xfrm>
            <a:prstGeom prst="line">
              <a:avLst/>
            </a:prstGeom>
            <a:ln w="39600">
              <a:solidFill>
                <a:srgbClr val="73737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001960" y="4527720"/>
              <a:ext cx="4186080" cy="1440"/>
            </a:xfrm>
            <a:prstGeom prst="line">
              <a:avLst/>
            </a:prstGeom>
            <a:ln w="39600">
              <a:solidFill>
                <a:srgbClr val="74747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001960" y="4538520"/>
              <a:ext cx="4186080" cy="1800"/>
            </a:xfrm>
            <a:prstGeom prst="line">
              <a:avLst/>
            </a:prstGeom>
            <a:ln w="39600">
              <a:solidFill>
                <a:srgbClr val="7676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001960" y="4538520"/>
              <a:ext cx="4186080" cy="1800"/>
            </a:xfrm>
            <a:prstGeom prst="line">
              <a:avLst/>
            </a:prstGeom>
            <a:ln w="3960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001960" y="4538520"/>
              <a:ext cx="4186080" cy="1800"/>
            </a:xfrm>
            <a:prstGeom prst="line">
              <a:avLst/>
            </a:prstGeom>
            <a:ln w="39600">
              <a:solidFill>
                <a:srgbClr val="78787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001960" y="4549680"/>
              <a:ext cx="4186080" cy="1800"/>
            </a:xfrm>
            <a:prstGeom prst="line">
              <a:avLst/>
            </a:prstGeom>
            <a:ln w="39600">
              <a:solidFill>
                <a:srgbClr val="7a7a7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001960" y="4549680"/>
              <a:ext cx="4186080" cy="1800"/>
            </a:xfrm>
            <a:prstGeom prst="line">
              <a:avLst/>
            </a:prstGeom>
            <a:ln w="39600">
              <a:solidFill>
                <a:srgbClr val="7b7b7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001960" y="4562640"/>
              <a:ext cx="4186080" cy="1440"/>
            </a:xfrm>
            <a:prstGeom prst="line">
              <a:avLst/>
            </a:prstGeom>
            <a:ln w="39600">
              <a:solidFill>
                <a:srgbClr val="7d7d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001960" y="4573440"/>
              <a:ext cx="4186080" cy="1800"/>
            </a:xfrm>
            <a:prstGeom prst="line">
              <a:avLst/>
            </a:prstGeom>
            <a:ln w="39600">
              <a:solidFill>
                <a:srgbClr val="7e7e7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001960" y="4573440"/>
              <a:ext cx="4186080" cy="1800"/>
            </a:xfrm>
            <a:prstGeom prst="line">
              <a:avLst/>
            </a:prstGeom>
            <a:ln w="39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001960" y="4584600"/>
              <a:ext cx="4186080" cy="1800"/>
            </a:xfrm>
            <a:prstGeom prst="line">
              <a:avLst/>
            </a:prstGeom>
            <a:ln w="39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001960" y="4595760"/>
              <a:ext cx="4186080" cy="1800"/>
            </a:xfrm>
            <a:prstGeom prst="line">
              <a:avLst/>
            </a:prstGeom>
            <a:ln w="39600">
              <a:solidFill>
                <a:srgbClr val="81818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001960" y="4595760"/>
              <a:ext cx="4186080" cy="1800"/>
            </a:xfrm>
            <a:prstGeom prst="line">
              <a:avLst/>
            </a:prstGeom>
            <a:ln w="39600">
              <a:solidFill>
                <a:srgbClr val="83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2001960" y="4606920"/>
              <a:ext cx="4186080" cy="1440"/>
            </a:xfrm>
            <a:prstGeom prst="line">
              <a:avLst/>
            </a:prstGeom>
            <a:ln w="39600">
              <a:solidFill>
                <a:srgbClr val="85858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001960" y="4606920"/>
              <a:ext cx="4186080" cy="1440"/>
            </a:xfrm>
            <a:prstGeom prst="line">
              <a:avLst/>
            </a:prstGeom>
            <a:ln w="39600">
              <a:solidFill>
                <a:srgbClr val="87878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2001960" y="4618080"/>
              <a:ext cx="4186080" cy="1440"/>
            </a:xfrm>
            <a:prstGeom prst="line">
              <a:avLst/>
            </a:prstGeom>
            <a:ln w="3960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2001960" y="4630680"/>
              <a:ext cx="4186080" cy="1800"/>
            </a:xfrm>
            <a:prstGeom prst="line">
              <a:avLst/>
            </a:prstGeom>
            <a:ln w="39600">
              <a:solidFill>
                <a:srgbClr val="8a8a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001960" y="4630680"/>
              <a:ext cx="4186080" cy="1800"/>
            </a:xfrm>
            <a:prstGeom prst="line">
              <a:avLst/>
            </a:prstGeom>
            <a:ln w="39600">
              <a:solidFill>
                <a:srgbClr val="8c8c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001960" y="4641840"/>
              <a:ext cx="4186080" cy="1440"/>
            </a:xfrm>
            <a:prstGeom prst="line">
              <a:avLst/>
            </a:prstGeom>
            <a:ln w="39600">
              <a:solidFill>
                <a:srgbClr val="8e8e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01960" y="4653000"/>
              <a:ext cx="4186080" cy="1440"/>
            </a:xfrm>
            <a:prstGeom prst="line">
              <a:avLst/>
            </a:prstGeom>
            <a:ln w="39600">
              <a:solidFill>
                <a:srgbClr val="8f8f8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001960" y="4653000"/>
              <a:ext cx="4186080" cy="1440"/>
            </a:xfrm>
            <a:prstGeom prst="line">
              <a:avLst/>
            </a:prstGeom>
            <a:ln w="39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001960" y="4664160"/>
              <a:ext cx="4186080" cy="1440"/>
            </a:xfrm>
            <a:prstGeom prst="line">
              <a:avLst/>
            </a:prstGeom>
            <a:ln w="39600">
              <a:solidFill>
                <a:srgbClr val="9393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001960" y="4675320"/>
              <a:ext cx="4186080" cy="1440"/>
            </a:xfrm>
            <a:prstGeom prst="line">
              <a:avLst/>
            </a:prstGeom>
            <a:ln w="39600">
              <a:solidFill>
                <a:srgbClr val="95959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001960" y="4675320"/>
              <a:ext cx="4186080" cy="1440"/>
            </a:xfrm>
            <a:prstGeom prst="line">
              <a:avLst/>
            </a:prstGeom>
            <a:ln w="39600">
              <a:solidFill>
                <a:srgbClr val="97979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001960" y="4686480"/>
              <a:ext cx="4186080" cy="1440"/>
            </a:xfrm>
            <a:prstGeom prst="line">
              <a:avLst/>
            </a:prstGeom>
            <a:ln w="39600">
              <a:solidFill>
                <a:srgbClr val="98989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2001960" y="4686480"/>
              <a:ext cx="4186080" cy="1440"/>
            </a:xfrm>
            <a:prstGeom prst="line">
              <a:avLst/>
            </a:prstGeom>
            <a:ln w="39600">
              <a:solidFill>
                <a:srgbClr val="9a9a9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001960" y="4697280"/>
              <a:ext cx="4186080" cy="1800"/>
            </a:xfrm>
            <a:prstGeom prst="line">
              <a:avLst/>
            </a:prstGeom>
            <a:ln w="39600">
              <a:solidFill>
                <a:srgbClr val="9c9c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2001960" y="4710240"/>
              <a:ext cx="4186080" cy="1440"/>
            </a:xfrm>
            <a:prstGeom prst="line">
              <a:avLst/>
            </a:prstGeom>
            <a:ln w="39600">
              <a:solidFill>
                <a:srgbClr val="9e9e9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2001960" y="4710240"/>
              <a:ext cx="4186080" cy="1440"/>
            </a:xfrm>
            <a:prstGeom prst="line">
              <a:avLst/>
            </a:prstGeom>
            <a:ln w="39600">
              <a:solidFill>
                <a:srgbClr val="9f9f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001960" y="4721400"/>
              <a:ext cx="4186080" cy="1440"/>
            </a:xfrm>
            <a:prstGeom prst="line">
              <a:avLst/>
            </a:prstGeom>
            <a:ln w="39600">
              <a:solidFill>
                <a:srgbClr val="a1a1a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001960" y="4732200"/>
              <a:ext cx="4186080" cy="1800"/>
            </a:xfrm>
            <a:prstGeom prst="line">
              <a:avLst/>
            </a:prstGeom>
            <a:ln w="39600">
              <a:solidFill>
                <a:srgbClr val="a3a3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2001960" y="4732200"/>
              <a:ext cx="4186080" cy="1800"/>
            </a:xfrm>
            <a:prstGeom prst="line">
              <a:avLst/>
            </a:prstGeom>
            <a:ln w="39600">
              <a:solidFill>
                <a:srgbClr val="a5a5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001960" y="4743360"/>
              <a:ext cx="4186080" cy="1800"/>
            </a:xfrm>
            <a:prstGeom prst="line">
              <a:avLst/>
            </a:prstGeom>
            <a:ln w="39600">
              <a:solidFill>
                <a:srgbClr val="a7a7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001960" y="4754520"/>
              <a:ext cx="4186080" cy="1800"/>
            </a:xfrm>
            <a:prstGeom prst="line">
              <a:avLst/>
            </a:prstGeom>
            <a:ln w="39600">
              <a:solidFill>
                <a:srgbClr val="a8a8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2001960" y="4754520"/>
              <a:ext cx="4186080" cy="1800"/>
            </a:xfrm>
            <a:prstGeom prst="line">
              <a:avLst/>
            </a:prstGeom>
            <a:ln w="39600">
              <a:solidFill>
                <a:srgbClr val="aaaaa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2001960" y="4754520"/>
              <a:ext cx="4186080" cy="1800"/>
            </a:xfrm>
            <a:prstGeom prst="line">
              <a:avLst/>
            </a:prstGeom>
            <a:ln w="39600">
              <a:solidFill>
                <a:srgbClr val="acaca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2001960" y="4765680"/>
              <a:ext cx="4186080" cy="1440"/>
            </a:xfrm>
            <a:prstGeom prst="line">
              <a:avLst/>
            </a:prstGeom>
            <a:ln w="39600">
              <a:solidFill>
                <a:srgbClr val="aea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001960" y="4765680"/>
              <a:ext cx="4186080" cy="1440"/>
            </a:xfrm>
            <a:prstGeom prst="line">
              <a:avLst/>
            </a:prstGeom>
            <a:ln w="39600">
              <a:solidFill>
                <a:srgbClr val="afafa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001960" y="4776840"/>
              <a:ext cx="4186080" cy="1440"/>
            </a:xfrm>
            <a:prstGeom prst="line">
              <a:avLst/>
            </a:prstGeom>
            <a:ln w="39600">
              <a:solidFill>
                <a:srgbClr val="b1b1b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001960" y="4776840"/>
              <a:ext cx="4186080" cy="1440"/>
            </a:xfrm>
            <a:prstGeom prst="line">
              <a:avLst/>
            </a:prstGeom>
            <a:ln w="39600">
              <a:solidFill>
                <a:srgbClr val="b3b3b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001960" y="4789440"/>
              <a:ext cx="4186080" cy="1800"/>
            </a:xfrm>
            <a:prstGeom prst="line">
              <a:avLst/>
            </a:prstGeom>
            <a:ln w="39600">
              <a:solidFill>
                <a:srgbClr val="b5b5b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2001960" y="4800600"/>
              <a:ext cx="4186080" cy="1440"/>
            </a:xfrm>
            <a:prstGeom prst="line">
              <a:avLst/>
            </a:prstGeom>
            <a:ln w="39600">
              <a:solidFill>
                <a:srgbClr val="b7b7b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2001960" y="4800600"/>
              <a:ext cx="4186080" cy="1440"/>
            </a:xfrm>
            <a:prstGeom prst="line">
              <a:avLst/>
            </a:prstGeom>
            <a:ln w="39600">
              <a:solidFill>
                <a:srgbClr val="b8b8b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001960" y="4811760"/>
              <a:ext cx="4186080" cy="1440"/>
            </a:xfrm>
            <a:prstGeom prst="line">
              <a:avLst/>
            </a:prstGeom>
            <a:ln w="39600">
              <a:solidFill>
                <a:srgbClr val="babab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001960" y="4822920"/>
              <a:ext cx="4186080" cy="1440"/>
            </a:xfrm>
            <a:prstGeom prst="line">
              <a:avLst/>
            </a:prstGeom>
            <a:ln w="39600">
              <a:solidFill>
                <a:srgbClr val="bcbcb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01960" y="4822920"/>
              <a:ext cx="4186080" cy="1440"/>
            </a:xfrm>
            <a:prstGeom prst="line">
              <a:avLst/>
            </a:prstGeom>
            <a:ln w="39600">
              <a:solidFill>
                <a:srgbClr val="bebeb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001960" y="4834080"/>
              <a:ext cx="4186080" cy="1440"/>
            </a:xfrm>
            <a:prstGeom prst="line">
              <a:avLst/>
            </a:prstGeom>
            <a:ln w="3960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021040" y="4073400"/>
              <a:ext cx="4178160" cy="771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021040" y="4073400"/>
              <a:ext cx="4178160" cy="771480"/>
            </a:xfrm>
            <a:custGeom>
              <a:avLst/>
              <a:gdLst/>
              <a:ahLst/>
              <a:rect l="l" t="t" r="r" b="b"/>
              <a:pathLst>
                <a:path w="2632" h="486">
                  <a:moveTo>
                    <a:pt x="0" y="486"/>
                  </a:moveTo>
                  <a:lnTo>
                    <a:pt x="1319" y="486"/>
                  </a:lnTo>
                  <a:lnTo>
                    <a:pt x="2632" y="486"/>
                  </a:lnTo>
                  <a:lnTo>
                    <a:pt x="2632" y="236"/>
                  </a:lnTo>
                  <a:lnTo>
                    <a:pt x="2632" y="0"/>
                  </a:lnTo>
                  <a:lnTo>
                    <a:pt x="1319" y="0"/>
                  </a:lnTo>
                  <a:lnTo>
                    <a:pt x="0" y="0"/>
                  </a:lnTo>
                  <a:lnTo>
                    <a:pt x="0" y="236"/>
                  </a:lnTo>
                  <a:lnTo>
                    <a:pt x="0" y="486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971720" y="4857840"/>
              <a:ext cx="30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971720" y="4164120"/>
              <a:ext cx="30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1971720" y="3483000"/>
              <a:ext cx="30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971720" y="2824200"/>
              <a:ext cx="302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981080" y="464184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981080" y="452772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981080" y="444816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981080" y="436896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981080" y="432288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981080" y="4278240"/>
              <a:ext cx="2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981080" y="4243320"/>
              <a:ext cx="2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981080" y="419904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981080" y="3971880"/>
              <a:ext cx="2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81080" y="385776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981080" y="3755880"/>
              <a:ext cx="2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981080" y="369900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981080" y="365292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981080" y="3597120"/>
              <a:ext cx="2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981080" y="3562200"/>
              <a:ext cx="2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81080" y="352908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981080" y="3290760"/>
              <a:ext cx="20880" cy="1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981080" y="316548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981080" y="308628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981080" y="301788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981080" y="297180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981080" y="291636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288144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981080" y="2835360"/>
              <a:ext cx="2088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2011320" y="2824200"/>
              <a:ext cx="1800" cy="2044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011320" y="4857840"/>
              <a:ext cx="1800" cy="3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719440" y="4857840"/>
              <a:ext cx="1440" cy="3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417840" y="4857840"/>
              <a:ext cx="1800" cy="3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114800" y="4857840"/>
              <a:ext cx="1440" cy="3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813200" y="4857840"/>
              <a:ext cx="1800" cy="3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511960" y="4857840"/>
              <a:ext cx="1440" cy="3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208560" y="4857840"/>
              <a:ext cx="1800" cy="33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5200" y="4857840"/>
              <a:ext cx="1800" cy="1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73320" y="4857840"/>
              <a:ext cx="1800" cy="1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760920" y="4857840"/>
              <a:ext cx="1440" cy="1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59320" y="4857840"/>
              <a:ext cx="1440" cy="1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67440" y="4857840"/>
              <a:ext cx="1440" cy="1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54680" y="4857840"/>
              <a:ext cx="1440" cy="111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325600" y="3414600"/>
              <a:ext cx="3843360" cy="568440"/>
            </a:xfrm>
            <a:custGeom>
              <a:avLst/>
              <a:gdLst/>
              <a:ahLst/>
              <a:rect l="l" t="t" r="r" b="b"/>
              <a:pathLst>
                <a:path w="2421" h="358">
                  <a:moveTo>
                    <a:pt x="0" y="272"/>
                  </a:moveTo>
                  <a:lnTo>
                    <a:pt x="223" y="265"/>
                  </a:lnTo>
                  <a:lnTo>
                    <a:pt x="446" y="236"/>
                  </a:lnTo>
                  <a:lnTo>
                    <a:pt x="662" y="358"/>
                  </a:lnTo>
                  <a:lnTo>
                    <a:pt x="879" y="286"/>
                  </a:lnTo>
                  <a:lnTo>
                    <a:pt x="1102" y="236"/>
                  </a:lnTo>
                  <a:lnTo>
                    <a:pt x="1325" y="251"/>
                  </a:lnTo>
                  <a:lnTo>
                    <a:pt x="1541" y="158"/>
                  </a:lnTo>
                  <a:lnTo>
                    <a:pt x="1764" y="358"/>
                  </a:lnTo>
                  <a:lnTo>
                    <a:pt x="1981" y="65"/>
                  </a:lnTo>
                  <a:lnTo>
                    <a:pt x="2198" y="0"/>
                  </a:lnTo>
                  <a:lnTo>
                    <a:pt x="2421" y="215"/>
                  </a:lnTo>
                </a:path>
              </a:pathLst>
            </a:custGeom>
            <a:noFill/>
            <a:ln w="2052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325600" y="3835440"/>
              <a:ext cx="90720" cy="903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325600" y="3835440"/>
              <a:ext cx="9072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31" y="0"/>
                  </a:moveTo>
                  <a:lnTo>
                    <a:pt x="31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2" y="5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31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2" y="5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68680" y="3824280"/>
              <a:ext cx="92160" cy="101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668680" y="3824280"/>
              <a:ext cx="92160" cy="10152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32" y="28"/>
                  </a:move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7" y="57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22560" y="3778200"/>
              <a:ext cx="101520" cy="903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22560" y="3778200"/>
              <a:ext cx="101520" cy="9036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32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43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8" y="7"/>
                  </a:lnTo>
                  <a:lnTo>
                    <a:pt x="58" y="7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4" y="14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43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730680" y="4051440"/>
              <a:ext cx="60120" cy="44280"/>
            </a:xfrm>
            <a:prstGeom prst="ellipse">
              <a:avLst/>
            </a:prstGeom>
            <a:solidFill>
              <a:srgbClr val="008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730680" y="4051440"/>
              <a:ext cx="71280" cy="56880"/>
            </a:xfrm>
            <a:custGeom>
              <a:avLst/>
              <a:gdLst/>
              <a:ahLst/>
              <a:rect l="l" t="t" r="r" b="b"/>
              <a:pathLst>
                <a:path w="45" h="36">
                  <a:moveTo>
                    <a:pt x="26" y="7"/>
                  </a:moveTo>
                  <a:lnTo>
                    <a:pt x="26" y="7"/>
                  </a:lnTo>
                  <a:lnTo>
                    <a:pt x="26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7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2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14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8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1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19" y="28"/>
                  </a:lnTo>
                  <a:lnTo>
                    <a:pt x="19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8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13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21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19" y="7"/>
                  </a:lnTo>
                  <a:lnTo>
                    <a:pt x="26" y="7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38" y="7"/>
                  </a:lnTo>
                  <a:lnTo>
                    <a:pt x="45" y="7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5" y="14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1"/>
                  </a:lnTo>
                  <a:lnTo>
                    <a:pt x="45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9" y="36"/>
                  </a:lnTo>
                  <a:lnTo>
                    <a:pt x="19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13" y="36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7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7" y="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7"/>
                  </a:lnTo>
                  <a:close/>
                </a:path>
              </a:pathLst>
            </a:custGeom>
            <a:solidFill>
              <a:srgbClr val="0080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075200" y="3778200"/>
              <a:ext cx="90360" cy="903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075200" y="3778200"/>
              <a:ext cx="90360" cy="9036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32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17920" y="3800520"/>
              <a:ext cx="92160" cy="1033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17920" y="3800520"/>
              <a:ext cx="92160" cy="103320"/>
            </a:xfrm>
            <a:custGeom>
              <a:avLst/>
              <a:gdLst/>
              <a:ahLst/>
              <a:rect l="l" t="t" r="r" b="b"/>
              <a:pathLst>
                <a:path w="58" h="65">
                  <a:moveTo>
                    <a:pt x="32" y="29"/>
                  </a:move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32" y="2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8" y="22"/>
                  </a:lnTo>
                  <a:lnTo>
                    <a:pt x="58" y="22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39" y="65"/>
                  </a:lnTo>
                  <a:lnTo>
                    <a:pt x="39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20" y="65"/>
                  </a:lnTo>
                  <a:lnTo>
                    <a:pt x="20" y="65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7" y="58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762440" y="3665520"/>
              <a:ext cx="101520" cy="903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762440" y="3665520"/>
              <a:ext cx="101520" cy="9036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32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64" y="14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64" y="14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42"/>
                  </a:lnTo>
                  <a:lnTo>
                    <a:pt x="57" y="42"/>
                  </a:lnTo>
                  <a:lnTo>
                    <a:pt x="57" y="42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0" y="42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16680" y="3971880"/>
              <a:ext cx="101520" cy="101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16680" y="39718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28"/>
                  </a:move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8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43"/>
                  </a:lnTo>
                  <a:lnTo>
                    <a:pt x="64" y="4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7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45" y="57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2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19" y="64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460840" y="3505320"/>
              <a:ext cx="100080" cy="1029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460840" y="3505320"/>
              <a:ext cx="100080" cy="10296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32" y="29"/>
                  </a:move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19" y="65"/>
                  </a:lnTo>
                  <a:lnTo>
                    <a:pt x="19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815080" y="3403440"/>
              <a:ext cx="90360" cy="907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815080" y="3403440"/>
              <a:ext cx="90360" cy="90720"/>
            </a:xfrm>
            <a:custGeom>
              <a:avLst/>
              <a:gdLst/>
              <a:ahLst/>
              <a:rect l="l" t="t" r="r" b="b"/>
              <a:pathLst>
                <a:path w="57" h="57">
                  <a:moveTo>
                    <a:pt x="32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2" y="5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7" y="14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2" y="5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168960" y="3745080"/>
              <a:ext cx="90720" cy="10152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168960" y="3745080"/>
              <a:ext cx="90720" cy="10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32" y="28"/>
                  </a:move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32" y="2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325600" y="3732120"/>
              <a:ext cx="3843360" cy="885960"/>
            </a:xfrm>
            <a:custGeom>
              <a:avLst/>
              <a:gdLst/>
              <a:ahLst/>
              <a:rect l="l" t="t" r="r" b="b"/>
              <a:pathLst>
                <a:path w="2421" h="558">
                  <a:moveTo>
                    <a:pt x="0" y="558"/>
                  </a:moveTo>
                  <a:lnTo>
                    <a:pt x="223" y="387"/>
                  </a:lnTo>
                  <a:lnTo>
                    <a:pt x="446" y="329"/>
                  </a:lnTo>
                  <a:lnTo>
                    <a:pt x="662" y="301"/>
                  </a:lnTo>
                  <a:lnTo>
                    <a:pt x="879" y="186"/>
                  </a:lnTo>
                  <a:lnTo>
                    <a:pt x="1102" y="251"/>
                  </a:lnTo>
                  <a:lnTo>
                    <a:pt x="1325" y="558"/>
                  </a:lnTo>
                  <a:lnTo>
                    <a:pt x="1541" y="430"/>
                  </a:lnTo>
                  <a:lnTo>
                    <a:pt x="1764" y="58"/>
                  </a:lnTo>
                  <a:lnTo>
                    <a:pt x="1981" y="0"/>
                  </a:lnTo>
                  <a:lnTo>
                    <a:pt x="2198" y="251"/>
                  </a:lnTo>
                  <a:lnTo>
                    <a:pt x="2421" y="558"/>
                  </a:lnTo>
                </a:path>
              </a:pathLst>
            </a:custGeom>
            <a:noFill/>
            <a:ln w="3960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344680" y="4641840"/>
              <a:ext cx="50760" cy="4464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35320" y="4618080"/>
              <a:ext cx="90360" cy="103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335320" y="4618080"/>
              <a:ext cx="9036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32" y="29"/>
                  </a:move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32" y="2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6" y="5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689200" y="4368960"/>
              <a:ext cx="60480" cy="4572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679840" y="4346640"/>
              <a:ext cx="90360" cy="101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679840" y="4346640"/>
              <a:ext cx="90360" cy="101520"/>
            </a:xfrm>
            <a:custGeom>
              <a:avLst/>
              <a:gdLst/>
              <a:ahLst/>
              <a:rect l="l" t="t" r="r" b="b"/>
              <a:pathLst>
                <a:path w="57" h="64">
                  <a:moveTo>
                    <a:pt x="31" y="28"/>
                  </a:move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28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31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35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25" y="28"/>
                  </a:lnTo>
                  <a:lnTo>
                    <a:pt x="31" y="28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8"/>
                  </a:lnTo>
                  <a:lnTo>
                    <a:pt x="57" y="28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35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1" y="64"/>
                  </a:lnTo>
                  <a:lnTo>
                    <a:pt x="31" y="64"/>
                  </a:lnTo>
                  <a:lnTo>
                    <a:pt x="31" y="64"/>
                  </a:lnTo>
                  <a:lnTo>
                    <a:pt x="25" y="64"/>
                  </a:lnTo>
                  <a:lnTo>
                    <a:pt x="25" y="64"/>
                  </a:lnTo>
                  <a:lnTo>
                    <a:pt x="19" y="64"/>
                  </a:lnTo>
                  <a:lnTo>
                    <a:pt x="19" y="64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12" y="57"/>
                  </a:lnTo>
                  <a:lnTo>
                    <a:pt x="6" y="57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43080" y="4278240"/>
              <a:ext cx="60480" cy="4464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33720" y="4254480"/>
              <a:ext cx="100080" cy="103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33720" y="4254480"/>
              <a:ext cx="100080" cy="103320"/>
            </a:xfrm>
            <a:custGeom>
              <a:avLst/>
              <a:gdLst/>
              <a:ahLst/>
              <a:rect l="l" t="t" r="r" b="b"/>
              <a:pathLst>
                <a:path w="63" h="65">
                  <a:moveTo>
                    <a:pt x="31" y="29"/>
                  </a:move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31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29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3" y="22"/>
                  </a:lnTo>
                  <a:lnTo>
                    <a:pt x="63" y="22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3"/>
                  </a:lnTo>
                  <a:lnTo>
                    <a:pt x="63" y="43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1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19" y="65"/>
                  </a:lnTo>
                  <a:lnTo>
                    <a:pt x="19" y="58"/>
                  </a:lnTo>
                  <a:lnTo>
                    <a:pt x="12" y="58"/>
                  </a:lnTo>
                  <a:lnTo>
                    <a:pt x="12" y="58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1" y="0"/>
                  </a:lnTo>
                  <a:lnTo>
                    <a:pt x="31" y="2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87600" y="4232160"/>
              <a:ext cx="60480" cy="4608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376440" y="4210200"/>
              <a:ext cx="101880" cy="101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376440" y="4210200"/>
              <a:ext cx="10188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28"/>
                  </a:move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28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8" y="7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43"/>
                  </a:lnTo>
                  <a:lnTo>
                    <a:pt x="64" y="43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45" y="57"/>
                  </a:lnTo>
                  <a:lnTo>
                    <a:pt x="45" y="64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8" y="64"/>
                  </a:lnTo>
                  <a:lnTo>
                    <a:pt x="32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19" y="64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7" y="57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7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730680" y="4051440"/>
              <a:ext cx="60120" cy="4428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720960" y="4027320"/>
              <a:ext cx="101880" cy="103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720960" y="4027320"/>
              <a:ext cx="10188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32" y="29"/>
                  </a:move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43"/>
                  </a:lnTo>
                  <a:lnTo>
                    <a:pt x="64" y="43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4" y="58"/>
                  </a:lnTo>
                  <a:lnTo>
                    <a:pt x="44" y="65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19" y="65"/>
                  </a:lnTo>
                  <a:lnTo>
                    <a:pt x="19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06" name=""/>
          <p:cNvGrpSpPr/>
          <p:nvPr/>
        </p:nvGrpSpPr>
        <p:grpSpPr>
          <a:xfrm>
            <a:off x="872280" y="1886040"/>
            <a:ext cx="7084440" cy="4322520"/>
            <a:chOff x="872280" y="1886040"/>
            <a:chExt cx="7084440" cy="4322520"/>
          </a:xfrm>
        </p:grpSpPr>
        <p:sp>
          <p:nvSpPr>
            <p:cNvPr id="607" name=""/>
            <p:cNvSpPr/>
            <p:nvPr/>
          </p:nvSpPr>
          <p:spPr>
            <a:xfrm>
              <a:off x="4084560" y="4164120"/>
              <a:ext cx="60480" cy="4608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084560" y="4141800"/>
              <a:ext cx="9216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84560" y="4141800"/>
              <a:ext cx="92160" cy="90360"/>
            </a:xfrm>
            <a:custGeom>
              <a:avLst/>
              <a:gdLst/>
              <a:ahLst/>
              <a:rect l="l" t="t" r="r" b="b"/>
              <a:pathLst>
                <a:path w="58" h="57">
                  <a:moveTo>
                    <a:pt x="32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8" y="14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8" y="14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29"/>
                  </a:lnTo>
                  <a:lnTo>
                    <a:pt x="58" y="36"/>
                  </a:lnTo>
                  <a:lnTo>
                    <a:pt x="58" y="36"/>
                  </a:lnTo>
                  <a:lnTo>
                    <a:pt x="58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5" y="50"/>
                  </a:lnTo>
                  <a:lnTo>
                    <a:pt x="45" y="50"/>
                  </a:lnTo>
                  <a:lnTo>
                    <a:pt x="45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32" y="57"/>
                  </a:lnTo>
                  <a:lnTo>
                    <a:pt x="26" y="57"/>
                  </a:lnTo>
                  <a:lnTo>
                    <a:pt x="26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43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438800" y="4641840"/>
              <a:ext cx="50760" cy="4464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429080" y="4618080"/>
              <a:ext cx="90360" cy="103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429080" y="4618080"/>
              <a:ext cx="9036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32" y="29"/>
                  </a:move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36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25" y="29"/>
                  </a:lnTo>
                  <a:lnTo>
                    <a:pt x="32" y="2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51" y="8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25" y="65"/>
                  </a:lnTo>
                  <a:lnTo>
                    <a:pt x="25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6" y="5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782960" y="4437000"/>
              <a:ext cx="60480" cy="4608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772160" y="4414680"/>
              <a:ext cx="91800" cy="1018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72160" y="4414680"/>
              <a:ext cx="91800" cy="101880"/>
            </a:xfrm>
            <a:custGeom>
              <a:avLst/>
              <a:gdLst/>
              <a:ahLst/>
              <a:rect l="l" t="t" r="r" b="b"/>
              <a:pathLst>
                <a:path w="58" h="64">
                  <a:moveTo>
                    <a:pt x="32" y="28"/>
                  </a:move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1" y="14"/>
                  </a:lnTo>
                  <a:lnTo>
                    <a:pt x="58" y="21"/>
                  </a:lnTo>
                  <a:lnTo>
                    <a:pt x="58" y="21"/>
                  </a:lnTo>
                  <a:lnTo>
                    <a:pt x="58" y="28"/>
                  </a:lnTo>
                  <a:lnTo>
                    <a:pt x="58" y="28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35"/>
                  </a:lnTo>
                  <a:lnTo>
                    <a:pt x="58" y="43"/>
                  </a:lnTo>
                  <a:lnTo>
                    <a:pt x="58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45" y="57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0" y="64"/>
                  </a:lnTo>
                  <a:lnTo>
                    <a:pt x="20" y="64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7" y="57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20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137200" y="3846600"/>
              <a:ext cx="60120" cy="4608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126040" y="3824280"/>
              <a:ext cx="101520" cy="1015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126040" y="3824280"/>
              <a:ext cx="101520" cy="101520"/>
            </a:xfrm>
            <a:custGeom>
              <a:avLst/>
              <a:gdLst/>
              <a:ahLst/>
              <a:rect l="l" t="t" r="r" b="b"/>
              <a:pathLst>
                <a:path w="64" h="64">
                  <a:moveTo>
                    <a:pt x="32" y="28"/>
                  </a:move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28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9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32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35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45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8" y="7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58" y="14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43"/>
                  </a:lnTo>
                  <a:lnTo>
                    <a:pt x="64" y="43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0"/>
                  </a:lnTo>
                  <a:lnTo>
                    <a:pt x="58" y="57"/>
                  </a:lnTo>
                  <a:lnTo>
                    <a:pt x="51" y="57"/>
                  </a:lnTo>
                  <a:lnTo>
                    <a:pt x="51" y="57"/>
                  </a:lnTo>
                  <a:lnTo>
                    <a:pt x="45" y="57"/>
                  </a:lnTo>
                  <a:lnTo>
                    <a:pt x="45" y="64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39" y="64"/>
                  </a:lnTo>
                  <a:lnTo>
                    <a:pt x="32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6" y="64"/>
                  </a:lnTo>
                  <a:lnTo>
                    <a:pt x="20" y="64"/>
                  </a:lnTo>
                  <a:lnTo>
                    <a:pt x="20" y="57"/>
                  </a:lnTo>
                  <a:lnTo>
                    <a:pt x="13" y="57"/>
                  </a:lnTo>
                  <a:lnTo>
                    <a:pt x="13" y="57"/>
                  </a:lnTo>
                  <a:lnTo>
                    <a:pt x="7" y="57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7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479920" y="3755880"/>
              <a:ext cx="61920" cy="4464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470560" y="3732120"/>
              <a:ext cx="101520" cy="103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470560" y="3732120"/>
              <a:ext cx="101520" cy="103320"/>
            </a:xfrm>
            <a:custGeom>
              <a:avLst/>
              <a:gdLst/>
              <a:ahLst/>
              <a:rect l="l" t="t" r="r" b="b"/>
              <a:pathLst>
                <a:path w="64" h="65">
                  <a:moveTo>
                    <a:pt x="32" y="29"/>
                  </a:move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29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8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43"/>
                  </a:lnTo>
                  <a:lnTo>
                    <a:pt x="64" y="43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1"/>
                  </a:lnTo>
                  <a:lnTo>
                    <a:pt x="57" y="58"/>
                  </a:lnTo>
                  <a:lnTo>
                    <a:pt x="51" y="58"/>
                  </a:lnTo>
                  <a:lnTo>
                    <a:pt x="51" y="58"/>
                  </a:lnTo>
                  <a:lnTo>
                    <a:pt x="45" y="58"/>
                  </a:lnTo>
                  <a:lnTo>
                    <a:pt x="45" y="65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19" y="65"/>
                  </a:lnTo>
                  <a:lnTo>
                    <a:pt x="19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6" y="58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6" y="51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9" y="8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24440" y="4164120"/>
              <a:ext cx="60480" cy="4608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15080" y="4141800"/>
              <a:ext cx="100080" cy="90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815080" y="4141800"/>
              <a:ext cx="100080" cy="90360"/>
            </a:xfrm>
            <a:custGeom>
              <a:avLst/>
              <a:gdLst/>
              <a:ahLst/>
              <a:rect l="l" t="t" r="r" b="b"/>
              <a:pathLst>
                <a:path w="63" h="57">
                  <a:moveTo>
                    <a:pt x="32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63" y="14"/>
                  </a:lnTo>
                  <a:lnTo>
                    <a:pt x="63" y="21"/>
                  </a:lnTo>
                  <a:lnTo>
                    <a:pt x="63" y="21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29"/>
                  </a:lnTo>
                  <a:lnTo>
                    <a:pt x="63" y="36"/>
                  </a:lnTo>
                  <a:lnTo>
                    <a:pt x="63" y="36"/>
                  </a:lnTo>
                  <a:lnTo>
                    <a:pt x="63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188040" y="4641840"/>
              <a:ext cx="50760" cy="4464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78680" y="4618080"/>
              <a:ext cx="90360" cy="103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78680" y="4618080"/>
              <a:ext cx="9036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32" y="29"/>
                  </a:move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29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32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26" y="29"/>
                  </a:lnTo>
                  <a:lnTo>
                    <a:pt x="32" y="29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45" y="8"/>
                  </a:lnTo>
                  <a:lnTo>
                    <a:pt x="51" y="8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51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38" y="65"/>
                  </a:lnTo>
                  <a:lnTo>
                    <a:pt x="38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32" y="65"/>
                  </a:lnTo>
                  <a:lnTo>
                    <a:pt x="26" y="65"/>
                  </a:lnTo>
                  <a:lnTo>
                    <a:pt x="26" y="65"/>
                  </a:lnTo>
                  <a:lnTo>
                    <a:pt x="19" y="65"/>
                  </a:lnTo>
                  <a:lnTo>
                    <a:pt x="19" y="65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13" y="58"/>
                  </a:lnTo>
                  <a:lnTo>
                    <a:pt x="6" y="58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0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32" y="0"/>
                  </a:lnTo>
                  <a:lnTo>
                    <a:pt x="32" y="29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682280" y="478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61120" y="478296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,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02880" y="47829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42480" y="40784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52120" y="3408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33120" y="34084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650600" y="2738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31240" y="2738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33120" y="273852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97424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67264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7140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07916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6676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42376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0476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12252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203520" y="488484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426000" y="4873680"/>
              <a:ext cx="148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66760" y="4873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6668640" y="4873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749280" y="4873680"/>
              <a:ext cx="511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789240" y="487368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869880" y="4873680"/>
              <a:ext cx="90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481800" y="3278160"/>
              <a:ext cx="60120" cy="46080"/>
            </a:xfrm>
            <a:prstGeom prst="ellipse">
              <a:avLst/>
            </a:prstGeom>
            <a:solidFill>
              <a:srgbClr val="ff91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021040" y="4857840"/>
              <a:ext cx="418752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691080" y="3868560"/>
              <a:ext cx="90360" cy="921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691080" y="3868560"/>
              <a:ext cx="90360" cy="92160"/>
            </a:xfrm>
            <a:custGeom>
              <a:avLst/>
              <a:gdLst/>
              <a:ahLst/>
              <a:rect l="l" t="t" r="r" b="b"/>
              <a:pathLst>
                <a:path w="57" h="58">
                  <a:moveTo>
                    <a:pt x="32" y="0"/>
                  </a:move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7" y="15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2" y="58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7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7"/>
                  </a:lnTo>
                  <a:lnTo>
                    <a:pt x="44" y="7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1" y="15"/>
                  </a:lnTo>
                  <a:lnTo>
                    <a:pt x="51" y="15"/>
                  </a:lnTo>
                  <a:lnTo>
                    <a:pt x="57" y="15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29"/>
                  </a:lnTo>
                  <a:lnTo>
                    <a:pt x="57" y="36"/>
                  </a:lnTo>
                  <a:lnTo>
                    <a:pt x="57" y="36"/>
                  </a:lnTo>
                  <a:lnTo>
                    <a:pt x="57" y="43"/>
                  </a:lnTo>
                  <a:lnTo>
                    <a:pt x="51" y="43"/>
                  </a:lnTo>
                  <a:lnTo>
                    <a:pt x="51" y="43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4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32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2" y="58"/>
                  </a:lnTo>
                  <a:lnTo>
                    <a:pt x="12" y="50"/>
                  </a:lnTo>
                  <a:lnTo>
                    <a:pt x="12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7"/>
                  </a:lnTo>
                  <a:lnTo>
                    <a:pt x="6" y="7"/>
                  </a:lnTo>
                  <a:lnTo>
                    <a:pt x="12" y="7"/>
                  </a:lnTo>
                  <a:lnTo>
                    <a:pt x="12" y="7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367080" y="3971880"/>
              <a:ext cx="101520" cy="90360"/>
            </a:xfrm>
            <a:prstGeom prst="ellipse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367080" y="3971880"/>
              <a:ext cx="101520" cy="90360"/>
            </a:xfrm>
            <a:custGeom>
              <a:avLst/>
              <a:gdLst/>
              <a:ahLst/>
              <a:rect l="l" t="t" r="r" b="b"/>
              <a:pathLst>
                <a:path w="64" h="57">
                  <a:moveTo>
                    <a:pt x="32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64" y="14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51" y="7"/>
                  </a:lnTo>
                  <a:lnTo>
                    <a:pt x="51" y="7"/>
                  </a:lnTo>
                  <a:lnTo>
                    <a:pt x="57" y="7"/>
                  </a:lnTo>
                  <a:lnTo>
                    <a:pt x="57" y="7"/>
                  </a:lnTo>
                  <a:lnTo>
                    <a:pt x="57" y="14"/>
                  </a:lnTo>
                  <a:lnTo>
                    <a:pt x="57" y="14"/>
                  </a:lnTo>
                  <a:lnTo>
                    <a:pt x="64" y="14"/>
                  </a:lnTo>
                  <a:lnTo>
                    <a:pt x="64" y="21"/>
                  </a:lnTo>
                  <a:lnTo>
                    <a:pt x="64" y="21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28"/>
                  </a:lnTo>
                  <a:lnTo>
                    <a:pt x="64" y="35"/>
                  </a:lnTo>
                  <a:lnTo>
                    <a:pt x="64" y="35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4" y="57"/>
                  </a:lnTo>
                  <a:lnTo>
                    <a:pt x="44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8" y="57"/>
                  </a:lnTo>
                  <a:lnTo>
                    <a:pt x="32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25" y="57"/>
                  </a:lnTo>
                  <a:lnTo>
                    <a:pt x="19" y="57"/>
                  </a:lnTo>
                  <a:lnTo>
                    <a:pt x="19" y="57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5"/>
                  </a:lnTo>
                  <a:lnTo>
                    <a:pt x="0" y="35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8"/>
                  </a:lnTo>
                  <a:lnTo>
                    <a:pt x="0" y="21"/>
                  </a:lnTo>
                  <a:lnTo>
                    <a:pt x="0" y="21"/>
                  </a:lnTo>
                  <a:lnTo>
                    <a:pt x="0" y="14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6" y="7"/>
                  </a:lnTo>
                  <a:lnTo>
                    <a:pt x="6" y="7"/>
                  </a:lnTo>
                  <a:lnTo>
                    <a:pt x="13" y="7"/>
                  </a:lnTo>
                  <a:lnTo>
                    <a:pt x="13" y="7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021040" y="6173640"/>
              <a:ext cx="4208400" cy="34920"/>
            </a:xfrm>
            <a:prstGeom prst="rect">
              <a:avLst/>
            </a:prstGeom>
            <a:solidFill>
              <a:srgbClr val="ff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085400" y="5634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c0fef9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185480" y="5634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c0fef9"/>
                  </a:solidFill>
                  <a:latin typeface="Arial"/>
                </a:rPr>
                <a:t>y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1287360" y="56340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c0fef9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449000" y="5634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c0fef9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1559880" y="563400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c0fef9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1620360" y="563400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c0fef9"/>
                  </a:solidFill>
                  <a:latin typeface="Arial"/>
                </a:rPr>
                <a:t>o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731960" y="563400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c0fef9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1893600" y="563400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c0fef9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872280" y="59529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923400" y="59529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034640" y="59529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094760" y="59529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l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5880" y="5952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247760" y="595296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07960" y="595296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569600" y="59529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1671120" y="595296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1731240" y="59529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782360" y="59529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o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893600" y="59529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500" spc="-1" strike="noStrike">
                  <a:solidFill>
                    <a:srgbClr val="ffbecc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359080" y="528336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520360" y="5283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571480" y="528336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682000" y="5283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733840" y="528336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5120" y="528336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996640" y="528336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l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277720" y="5475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p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90400" y="5475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490480" y="5475240"/>
              <a:ext cx="75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r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61760" y="5475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63280" y="547524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712600" y="5475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s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814120" y="5475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874600" y="547524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e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76120" y="547524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087000" y="547524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56760" y="56689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207880" y="56689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318760" y="56689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f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378880" y="56689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l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430000" y="5668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532240" y="566892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693880" y="5668920"/>
              <a:ext cx="169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m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855520" y="5668920"/>
              <a:ext cx="107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a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955240" y="5668920"/>
              <a:ext cx="64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t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17160" y="5668920"/>
              <a:ext cx="54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i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66840" y="56689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o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77720" y="5668920"/>
              <a:ext cx="1166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n-US" sz="1500" spc="-1" strike="noStrike">
                  <a:solidFill>
                    <a:srgbClr val="ffdce2"/>
                  </a:solidFill>
                  <a:latin typeface="Arial"/>
                </a:rPr>
                <a:t>n</a:t>
              </a:r>
              <a:endParaRPr b="0" lang="en-US" sz="15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333840" y="5702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l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384600" y="57024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525720" y="5702400"/>
              <a:ext cx="1882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w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6698880" y="5702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769080" y="570240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921360" y="570240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42320" y="5702400"/>
              <a:ext cx="93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22600" y="5702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3720" y="570240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05480" y="570240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6bf69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445080" y="384012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25720" y="3840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669000" y="38401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80240" y="38401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900480" y="3840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041960" y="3840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84520" y="3840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254360" y="384012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395840" y="3840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446600" y="3840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18240" y="38401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629480" y="38401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750080" y="384012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872120" y="384012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45080" y="4113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25720" y="41133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669000" y="4113360"/>
              <a:ext cx="93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749640" y="411336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10480" y="4113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931080" y="4113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062840" y="4113360"/>
              <a:ext cx="214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265520" y="41133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07360" y="411336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488000" y="4113360"/>
              <a:ext cx="148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629480" y="4113360"/>
              <a:ext cx="214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m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821720" y="411336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9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H="1">
              <a:off x="6036840" y="4141800"/>
              <a:ext cx="344520" cy="1440"/>
            </a:xfrm>
            <a:prstGeom prst="line">
              <a:avLst/>
            </a:prstGeom>
            <a:ln w="20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058080" y="4095720"/>
              <a:ext cx="161640" cy="125280"/>
            </a:xfrm>
            <a:custGeom>
              <a:avLst/>
              <a:gdLst/>
              <a:ahLst/>
              <a:rect l="l" t="t" r="r" b="b"/>
              <a:pathLst>
                <a:path w="102" h="79">
                  <a:moveTo>
                    <a:pt x="102" y="79"/>
                  </a:moveTo>
                  <a:lnTo>
                    <a:pt x="102" y="79"/>
                  </a:lnTo>
                  <a:lnTo>
                    <a:pt x="102" y="0"/>
                  </a:lnTo>
                  <a:lnTo>
                    <a:pt x="0" y="36"/>
                  </a:lnTo>
                  <a:lnTo>
                    <a:pt x="102" y="7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632240" y="1886040"/>
              <a:ext cx="2322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84284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98576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14776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30940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a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46060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61252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69352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44000" y="1886040"/>
              <a:ext cx="24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7800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22848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30984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471840" y="1886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f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55248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61332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78612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o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93696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10976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26060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41288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7372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4508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79700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948200" y="1886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02884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109480" y="1886040"/>
              <a:ext cx="2491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m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534312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403960" y="1886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548460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63688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1788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577836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595008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10236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u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627336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c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642600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e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657684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d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672912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6810120" y="1886040"/>
              <a:ext cx="1090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r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690084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h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07184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134120" y="1886040"/>
              <a:ext cx="1713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n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0548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365960" y="1886040"/>
              <a:ext cx="93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t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46600" y="1886040"/>
              <a:ext cx="784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i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527600" y="1886040"/>
              <a:ext cx="156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200" spc="-1" strike="noStrike">
                  <a:solidFill>
                    <a:srgbClr val="f7fd3b"/>
                  </a:solidFill>
                  <a:latin typeface="Arial"/>
                </a:rPr>
                <a:t>s</a:t>
              </a:r>
              <a:endParaRPr b="0" lang="en-US" sz="2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37200" y="2847960"/>
              <a:ext cx="1911240" cy="725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76800" y="3313080"/>
              <a:ext cx="374760" cy="1800"/>
            </a:xfrm>
            <a:prstGeom prst="line">
              <a:avLst/>
            </a:prstGeom>
            <a:ln w="2052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6229440" y="3278160"/>
              <a:ext cx="101520" cy="92160"/>
            </a:xfrm>
            <a:custGeom>
              <a:avLst/>
              <a:gdLst/>
              <a:ahLst/>
              <a:rect l="l" t="t" r="r" b="b"/>
              <a:pathLst>
                <a:path w="64" h="58">
                  <a:moveTo>
                    <a:pt x="32" y="0"/>
                  </a:move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4" y="15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2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lnTo>
                    <a:pt x="32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45" y="0"/>
                  </a:lnTo>
                  <a:lnTo>
                    <a:pt x="45" y="0"/>
                  </a:lnTo>
                  <a:lnTo>
                    <a:pt x="51" y="8"/>
                  </a:lnTo>
                  <a:lnTo>
                    <a:pt x="51" y="8"/>
                  </a:lnTo>
                  <a:lnTo>
                    <a:pt x="57" y="8"/>
                  </a:lnTo>
                  <a:lnTo>
                    <a:pt x="57" y="8"/>
                  </a:lnTo>
                  <a:lnTo>
                    <a:pt x="57" y="15"/>
                  </a:lnTo>
                  <a:lnTo>
                    <a:pt x="57" y="15"/>
                  </a:lnTo>
                  <a:lnTo>
                    <a:pt x="64" y="15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29"/>
                  </a:lnTo>
                  <a:lnTo>
                    <a:pt x="64" y="36"/>
                  </a:lnTo>
                  <a:lnTo>
                    <a:pt x="64" y="36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43"/>
                  </a:lnTo>
                  <a:lnTo>
                    <a:pt x="57" y="50"/>
                  </a:lnTo>
                  <a:lnTo>
                    <a:pt x="57" y="50"/>
                  </a:lnTo>
                  <a:lnTo>
                    <a:pt x="51" y="50"/>
                  </a:lnTo>
                  <a:lnTo>
                    <a:pt x="51" y="50"/>
                  </a:lnTo>
                  <a:lnTo>
                    <a:pt x="45" y="58"/>
                  </a:lnTo>
                  <a:lnTo>
                    <a:pt x="45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8" y="58"/>
                  </a:lnTo>
                  <a:lnTo>
                    <a:pt x="32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25" y="58"/>
                  </a:lnTo>
                  <a:lnTo>
                    <a:pt x="19" y="58"/>
                  </a:lnTo>
                  <a:lnTo>
                    <a:pt x="19" y="58"/>
                  </a:lnTo>
                  <a:lnTo>
                    <a:pt x="13" y="50"/>
                  </a:lnTo>
                  <a:lnTo>
                    <a:pt x="13" y="50"/>
                  </a:lnTo>
                  <a:lnTo>
                    <a:pt x="6" y="50"/>
                  </a:lnTo>
                  <a:lnTo>
                    <a:pt x="6" y="50"/>
                  </a:lnTo>
                  <a:lnTo>
                    <a:pt x="6" y="43"/>
                  </a:lnTo>
                  <a:lnTo>
                    <a:pt x="6" y="43"/>
                  </a:lnTo>
                  <a:lnTo>
                    <a:pt x="0" y="43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0" y="15"/>
                  </a:lnTo>
                  <a:lnTo>
                    <a:pt x="6" y="15"/>
                  </a:lnTo>
                  <a:lnTo>
                    <a:pt x="6" y="15"/>
                  </a:lnTo>
                  <a:lnTo>
                    <a:pt x="6" y="8"/>
                  </a:lnTo>
                  <a:lnTo>
                    <a:pt x="6" y="8"/>
                  </a:lnTo>
                  <a:lnTo>
                    <a:pt x="13" y="8"/>
                  </a:lnTo>
                  <a:lnTo>
                    <a:pt x="13" y="8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576840" y="3205080"/>
              <a:ext cx="174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750000" y="3205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6861240" y="32050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6930720" y="3205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981840" y="3205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103880" y="3205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173720" y="3205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233840" y="3205080"/>
              <a:ext cx="676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284960" y="3205080"/>
              <a:ext cx="81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356600" y="3205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477200" y="3205080"/>
              <a:ext cx="54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527960" y="3205080"/>
              <a:ext cx="1350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7" name=""/>
          <p:cNvSpPr/>
          <p:nvPr/>
        </p:nvSpPr>
        <p:spPr>
          <a:xfrm>
            <a:off x="7650000" y="32050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780320" y="320508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6058080" y="2995560"/>
            <a:ext cx="372960" cy="1800"/>
          </a:xfrm>
          <a:prstGeom prst="line">
            <a:avLst/>
          </a:prstGeom>
          <a:ln w="39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6229440" y="2960640"/>
            <a:ext cx="101520" cy="90360"/>
          </a:xfrm>
          <a:custGeom>
            <a:avLst/>
            <a:gdLst/>
            <a:ahLst/>
            <a:rect l="l" t="t" r="r" b="b"/>
            <a:pathLst>
              <a:path w="64" h="57">
                <a:moveTo>
                  <a:pt x="32" y="0"/>
                </a:moveTo>
                <a:lnTo>
                  <a:pt x="38" y="0"/>
                </a:lnTo>
                <a:lnTo>
                  <a:pt x="38" y="0"/>
                </a:lnTo>
                <a:lnTo>
                  <a:pt x="38" y="0"/>
                </a:lnTo>
                <a:lnTo>
                  <a:pt x="45" y="0"/>
                </a:lnTo>
                <a:lnTo>
                  <a:pt x="45" y="0"/>
                </a:lnTo>
                <a:lnTo>
                  <a:pt x="51" y="7"/>
                </a:lnTo>
                <a:lnTo>
                  <a:pt x="51" y="7"/>
                </a:lnTo>
                <a:lnTo>
                  <a:pt x="57" y="7"/>
                </a:lnTo>
                <a:lnTo>
                  <a:pt x="57" y="7"/>
                </a:lnTo>
                <a:lnTo>
                  <a:pt x="57" y="14"/>
                </a:lnTo>
                <a:lnTo>
                  <a:pt x="57" y="14"/>
                </a:lnTo>
                <a:lnTo>
                  <a:pt x="64" y="14"/>
                </a:lnTo>
                <a:lnTo>
                  <a:pt x="64" y="22"/>
                </a:lnTo>
                <a:lnTo>
                  <a:pt x="64" y="22"/>
                </a:lnTo>
                <a:lnTo>
                  <a:pt x="64" y="29"/>
                </a:lnTo>
                <a:lnTo>
                  <a:pt x="64" y="29"/>
                </a:lnTo>
                <a:lnTo>
                  <a:pt x="64" y="29"/>
                </a:lnTo>
                <a:lnTo>
                  <a:pt x="64" y="36"/>
                </a:lnTo>
                <a:lnTo>
                  <a:pt x="64" y="36"/>
                </a:lnTo>
                <a:lnTo>
                  <a:pt x="64" y="43"/>
                </a:lnTo>
                <a:lnTo>
                  <a:pt x="57" y="43"/>
                </a:lnTo>
                <a:lnTo>
                  <a:pt x="57" y="43"/>
                </a:lnTo>
                <a:lnTo>
                  <a:pt x="57" y="50"/>
                </a:lnTo>
                <a:lnTo>
                  <a:pt x="57" y="50"/>
                </a:lnTo>
                <a:lnTo>
                  <a:pt x="51" y="50"/>
                </a:lnTo>
                <a:lnTo>
                  <a:pt x="51" y="50"/>
                </a:lnTo>
                <a:lnTo>
                  <a:pt x="45" y="57"/>
                </a:lnTo>
                <a:lnTo>
                  <a:pt x="45" y="57"/>
                </a:lnTo>
                <a:lnTo>
                  <a:pt x="38" y="57"/>
                </a:lnTo>
                <a:lnTo>
                  <a:pt x="38" y="57"/>
                </a:lnTo>
                <a:lnTo>
                  <a:pt x="38" y="57"/>
                </a:lnTo>
                <a:lnTo>
                  <a:pt x="32" y="57"/>
                </a:lnTo>
                <a:lnTo>
                  <a:pt x="25" y="57"/>
                </a:lnTo>
                <a:lnTo>
                  <a:pt x="25" y="57"/>
                </a:lnTo>
                <a:lnTo>
                  <a:pt x="25" y="57"/>
                </a:lnTo>
                <a:lnTo>
                  <a:pt x="19" y="57"/>
                </a:lnTo>
                <a:lnTo>
                  <a:pt x="19" y="57"/>
                </a:lnTo>
                <a:lnTo>
                  <a:pt x="13" y="50"/>
                </a:lnTo>
                <a:lnTo>
                  <a:pt x="13" y="50"/>
                </a:lnTo>
                <a:lnTo>
                  <a:pt x="6" y="50"/>
                </a:lnTo>
                <a:lnTo>
                  <a:pt x="6" y="50"/>
                </a:lnTo>
                <a:lnTo>
                  <a:pt x="6" y="43"/>
                </a:lnTo>
                <a:lnTo>
                  <a:pt x="6" y="43"/>
                </a:lnTo>
                <a:lnTo>
                  <a:pt x="0" y="43"/>
                </a:lnTo>
                <a:lnTo>
                  <a:pt x="0" y="36"/>
                </a:lnTo>
                <a:lnTo>
                  <a:pt x="0" y="36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lnTo>
                  <a:pt x="0" y="22"/>
                </a:lnTo>
                <a:lnTo>
                  <a:pt x="0" y="22"/>
                </a:lnTo>
                <a:lnTo>
                  <a:pt x="0" y="14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  <a:lnTo>
                  <a:pt x="13" y="7"/>
                </a:lnTo>
                <a:lnTo>
                  <a:pt x="13" y="7"/>
                </a:lnTo>
                <a:lnTo>
                  <a:pt x="19" y="0"/>
                </a:lnTo>
                <a:lnTo>
                  <a:pt x="19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2" y="0"/>
                </a:lnTo>
                <a:lnTo>
                  <a:pt x="32" y="0"/>
                </a:lnTo>
                <a:lnTo>
                  <a:pt x="38" y="0"/>
                </a:lnTo>
                <a:lnTo>
                  <a:pt x="38" y="0"/>
                </a:lnTo>
                <a:lnTo>
                  <a:pt x="38" y="0"/>
                </a:lnTo>
                <a:lnTo>
                  <a:pt x="45" y="0"/>
                </a:lnTo>
                <a:lnTo>
                  <a:pt x="45" y="0"/>
                </a:lnTo>
                <a:lnTo>
                  <a:pt x="51" y="7"/>
                </a:lnTo>
                <a:lnTo>
                  <a:pt x="51" y="7"/>
                </a:lnTo>
                <a:lnTo>
                  <a:pt x="57" y="7"/>
                </a:lnTo>
                <a:lnTo>
                  <a:pt x="57" y="7"/>
                </a:lnTo>
                <a:lnTo>
                  <a:pt x="57" y="14"/>
                </a:lnTo>
                <a:lnTo>
                  <a:pt x="57" y="14"/>
                </a:lnTo>
                <a:lnTo>
                  <a:pt x="64" y="14"/>
                </a:lnTo>
                <a:lnTo>
                  <a:pt x="64" y="22"/>
                </a:lnTo>
                <a:lnTo>
                  <a:pt x="64" y="22"/>
                </a:lnTo>
                <a:lnTo>
                  <a:pt x="64" y="29"/>
                </a:lnTo>
                <a:lnTo>
                  <a:pt x="64" y="29"/>
                </a:lnTo>
                <a:lnTo>
                  <a:pt x="64" y="29"/>
                </a:lnTo>
                <a:lnTo>
                  <a:pt x="64" y="36"/>
                </a:lnTo>
                <a:lnTo>
                  <a:pt x="64" y="36"/>
                </a:lnTo>
                <a:lnTo>
                  <a:pt x="64" y="43"/>
                </a:lnTo>
                <a:lnTo>
                  <a:pt x="57" y="43"/>
                </a:lnTo>
                <a:lnTo>
                  <a:pt x="57" y="43"/>
                </a:lnTo>
                <a:lnTo>
                  <a:pt x="57" y="50"/>
                </a:lnTo>
                <a:lnTo>
                  <a:pt x="57" y="50"/>
                </a:lnTo>
                <a:lnTo>
                  <a:pt x="51" y="50"/>
                </a:lnTo>
                <a:lnTo>
                  <a:pt x="51" y="50"/>
                </a:lnTo>
                <a:lnTo>
                  <a:pt x="45" y="57"/>
                </a:lnTo>
                <a:lnTo>
                  <a:pt x="45" y="57"/>
                </a:lnTo>
                <a:lnTo>
                  <a:pt x="38" y="57"/>
                </a:lnTo>
                <a:lnTo>
                  <a:pt x="38" y="57"/>
                </a:lnTo>
                <a:lnTo>
                  <a:pt x="38" y="57"/>
                </a:lnTo>
                <a:lnTo>
                  <a:pt x="32" y="57"/>
                </a:lnTo>
                <a:lnTo>
                  <a:pt x="25" y="57"/>
                </a:lnTo>
                <a:lnTo>
                  <a:pt x="25" y="57"/>
                </a:lnTo>
                <a:lnTo>
                  <a:pt x="25" y="57"/>
                </a:lnTo>
                <a:lnTo>
                  <a:pt x="19" y="57"/>
                </a:lnTo>
                <a:lnTo>
                  <a:pt x="19" y="57"/>
                </a:lnTo>
                <a:lnTo>
                  <a:pt x="13" y="50"/>
                </a:lnTo>
                <a:lnTo>
                  <a:pt x="13" y="50"/>
                </a:lnTo>
                <a:lnTo>
                  <a:pt x="6" y="50"/>
                </a:lnTo>
                <a:lnTo>
                  <a:pt x="6" y="50"/>
                </a:lnTo>
                <a:lnTo>
                  <a:pt x="6" y="43"/>
                </a:lnTo>
                <a:lnTo>
                  <a:pt x="6" y="43"/>
                </a:lnTo>
                <a:lnTo>
                  <a:pt x="0" y="43"/>
                </a:lnTo>
                <a:lnTo>
                  <a:pt x="0" y="36"/>
                </a:lnTo>
                <a:lnTo>
                  <a:pt x="0" y="36"/>
                </a:lnTo>
                <a:lnTo>
                  <a:pt x="0" y="29"/>
                </a:lnTo>
                <a:lnTo>
                  <a:pt x="0" y="29"/>
                </a:lnTo>
                <a:lnTo>
                  <a:pt x="0" y="29"/>
                </a:lnTo>
                <a:lnTo>
                  <a:pt x="0" y="22"/>
                </a:lnTo>
                <a:lnTo>
                  <a:pt x="0" y="22"/>
                </a:lnTo>
                <a:lnTo>
                  <a:pt x="0" y="14"/>
                </a:lnTo>
                <a:lnTo>
                  <a:pt x="6" y="14"/>
                </a:lnTo>
                <a:lnTo>
                  <a:pt x="6" y="14"/>
                </a:lnTo>
                <a:lnTo>
                  <a:pt x="6" y="7"/>
                </a:lnTo>
                <a:lnTo>
                  <a:pt x="6" y="7"/>
                </a:lnTo>
                <a:lnTo>
                  <a:pt x="13" y="7"/>
                </a:lnTo>
                <a:lnTo>
                  <a:pt x="13" y="7"/>
                </a:lnTo>
                <a:lnTo>
                  <a:pt x="19" y="0"/>
                </a:lnTo>
                <a:lnTo>
                  <a:pt x="19" y="0"/>
                </a:lnTo>
                <a:lnTo>
                  <a:pt x="25" y="0"/>
                </a:lnTo>
                <a:lnTo>
                  <a:pt x="25" y="0"/>
                </a:lnTo>
                <a:lnTo>
                  <a:pt x="25" y="0"/>
                </a:lnTo>
                <a:lnTo>
                  <a:pt x="32" y="0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6576840" y="28749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750000" y="2874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861240" y="287496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930720" y="287496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6981840" y="2874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7103880" y="287496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7173720" y="287496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7233840" y="2874960"/>
            <a:ext cx="67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7284960" y="287496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7356600" y="2874960"/>
            <a:ext cx="5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407360" y="287496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527960" y="2874960"/>
            <a:ext cx="174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7699320" y="2874960"/>
            <a:ext cx="81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638440" y="5992920"/>
            <a:ext cx="101520" cy="169920"/>
          </a:xfrm>
          <a:custGeom>
            <a:avLst/>
            <a:gdLst/>
            <a:ahLst/>
            <a:rect l="l" t="t" r="r" b="b"/>
            <a:pathLst>
              <a:path w="64" h="107">
                <a:moveTo>
                  <a:pt x="64" y="7"/>
                </a:moveTo>
                <a:lnTo>
                  <a:pt x="64" y="7"/>
                </a:lnTo>
                <a:lnTo>
                  <a:pt x="32" y="0"/>
                </a:lnTo>
                <a:lnTo>
                  <a:pt x="0" y="7"/>
                </a:lnTo>
                <a:lnTo>
                  <a:pt x="32" y="107"/>
                </a:lnTo>
                <a:lnTo>
                  <a:pt x="64" y="7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2173320" y="5889600"/>
            <a:ext cx="4025880" cy="318960"/>
          </a:xfrm>
          <a:custGeom>
            <a:avLst/>
            <a:gdLst/>
            <a:ahLst/>
            <a:rect l="l" t="t" r="r" b="b"/>
            <a:pathLst>
              <a:path w="2536" h="201">
                <a:moveTo>
                  <a:pt x="2536" y="179"/>
                </a:moveTo>
                <a:lnTo>
                  <a:pt x="0" y="179"/>
                </a:lnTo>
                <a:lnTo>
                  <a:pt x="96" y="186"/>
                </a:lnTo>
                <a:lnTo>
                  <a:pt x="204" y="194"/>
                </a:lnTo>
                <a:lnTo>
                  <a:pt x="299" y="179"/>
                </a:lnTo>
                <a:lnTo>
                  <a:pt x="414" y="201"/>
                </a:lnTo>
                <a:lnTo>
                  <a:pt x="548" y="179"/>
                </a:lnTo>
                <a:lnTo>
                  <a:pt x="644" y="179"/>
                </a:lnTo>
                <a:lnTo>
                  <a:pt x="745" y="158"/>
                </a:lnTo>
                <a:lnTo>
                  <a:pt x="828" y="58"/>
                </a:lnTo>
                <a:lnTo>
                  <a:pt x="892" y="58"/>
                </a:lnTo>
                <a:lnTo>
                  <a:pt x="956" y="72"/>
                </a:lnTo>
                <a:lnTo>
                  <a:pt x="1019" y="65"/>
                </a:lnTo>
                <a:lnTo>
                  <a:pt x="1128" y="43"/>
                </a:lnTo>
                <a:lnTo>
                  <a:pt x="1191" y="79"/>
                </a:lnTo>
                <a:lnTo>
                  <a:pt x="1242" y="151"/>
                </a:lnTo>
                <a:lnTo>
                  <a:pt x="1319" y="172"/>
                </a:lnTo>
                <a:lnTo>
                  <a:pt x="1414" y="158"/>
                </a:lnTo>
                <a:lnTo>
                  <a:pt x="1453" y="108"/>
                </a:lnTo>
                <a:lnTo>
                  <a:pt x="1491" y="122"/>
                </a:lnTo>
                <a:lnTo>
                  <a:pt x="1548" y="165"/>
                </a:lnTo>
                <a:lnTo>
                  <a:pt x="1631" y="172"/>
                </a:lnTo>
                <a:lnTo>
                  <a:pt x="1695" y="179"/>
                </a:lnTo>
                <a:lnTo>
                  <a:pt x="1733" y="129"/>
                </a:lnTo>
                <a:lnTo>
                  <a:pt x="1765" y="65"/>
                </a:lnTo>
                <a:lnTo>
                  <a:pt x="1816" y="36"/>
                </a:lnTo>
                <a:lnTo>
                  <a:pt x="1867" y="15"/>
                </a:lnTo>
                <a:lnTo>
                  <a:pt x="1937" y="15"/>
                </a:lnTo>
                <a:lnTo>
                  <a:pt x="1988" y="43"/>
                </a:lnTo>
                <a:lnTo>
                  <a:pt x="2064" y="58"/>
                </a:lnTo>
                <a:lnTo>
                  <a:pt x="2128" y="22"/>
                </a:lnTo>
                <a:lnTo>
                  <a:pt x="2211" y="0"/>
                </a:lnTo>
                <a:lnTo>
                  <a:pt x="2287" y="8"/>
                </a:lnTo>
                <a:lnTo>
                  <a:pt x="2345" y="50"/>
                </a:lnTo>
                <a:lnTo>
                  <a:pt x="2408" y="101"/>
                </a:lnTo>
                <a:lnTo>
                  <a:pt x="2447" y="143"/>
                </a:lnTo>
                <a:lnTo>
                  <a:pt x="2504" y="172"/>
                </a:lnTo>
                <a:lnTo>
                  <a:pt x="2536" y="179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2173320" y="5889600"/>
            <a:ext cx="4025880" cy="318960"/>
          </a:xfrm>
          <a:custGeom>
            <a:avLst/>
            <a:gdLst/>
            <a:ahLst/>
            <a:rect l="l" t="t" r="r" b="b"/>
            <a:pathLst>
              <a:path w="2536" h="201">
                <a:moveTo>
                  <a:pt x="2536" y="179"/>
                </a:moveTo>
                <a:lnTo>
                  <a:pt x="0" y="179"/>
                </a:lnTo>
                <a:lnTo>
                  <a:pt x="96" y="186"/>
                </a:lnTo>
                <a:lnTo>
                  <a:pt x="204" y="194"/>
                </a:lnTo>
                <a:lnTo>
                  <a:pt x="299" y="179"/>
                </a:lnTo>
                <a:lnTo>
                  <a:pt x="414" y="201"/>
                </a:lnTo>
                <a:lnTo>
                  <a:pt x="548" y="179"/>
                </a:lnTo>
                <a:lnTo>
                  <a:pt x="644" y="179"/>
                </a:lnTo>
                <a:lnTo>
                  <a:pt x="745" y="158"/>
                </a:lnTo>
                <a:lnTo>
                  <a:pt x="828" y="58"/>
                </a:lnTo>
                <a:lnTo>
                  <a:pt x="892" y="58"/>
                </a:lnTo>
                <a:lnTo>
                  <a:pt x="956" y="72"/>
                </a:lnTo>
                <a:lnTo>
                  <a:pt x="1019" y="65"/>
                </a:lnTo>
                <a:lnTo>
                  <a:pt x="1128" y="43"/>
                </a:lnTo>
                <a:lnTo>
                  <a:pt x="1191" y="79"/>
                </a:lnTo>
                <a:lnTo>
                  <a:pt x="1242" y="151"/>
                </a:lnTo>
                <a:lnTo>
                  <a:pt x="1319" y="172"/>
                </a:lnTo>
                <a:lnTo>
                  <a:pt x="1414" y="158"/>
                </a:lnTo>
                <a:lnTo>
                  <a:pt x="1453" y="108"/>
                </a:lnTo>
                <a:lnTo>
                  <a:pt x="1491" y="122"/>
                </a:lnTo>
                <a:lnTo>
                  <a:pt x="1548" y="165"/>
                </a:lnTo>
                <a:lnTo>
                  <a:pt x="1631" y="172"/>
                </a:lnTo>
                <a:lnTo>
                  <a:pt x="1695" y="179"/>
                </a:lnTo>
                <a:lnTo>
                  <a:pt x="1733" y="129"/>
                </a:lnTo>
                <a:lnTo>
                  <a:pt x="1765" y="65"/>
                </a:lnTo>
                <a:lnTo>
                  <a:pt x="1816" y="36"/>
                </a:lnTo>
                <a:lnTo>
                  <a:pt x="1867" y="15"/>
                </a:lnTo>
                <a:lnTo>
                  <a:pt x="1937" y="15"/>
                </a:lnTo>
                <a:lnTo>
                  <a:pt x="1988" y="43"/>
                </a:lnTo>
                <a:lnTo>
                  <a:pt x="2064" y="58"/>
                </a:lnTo>
                <a:lnTo>
                  <a:pt x="2128" y="22"/>
                </a:lnTo>
                <a:lnTo>
                  <a:pt x="2211" y="0"/>
                </a:lnTo>
                <a:lnTo>
                  <a:pt x="2287" y="8"/>
                </a:lnTo>
                <a:lnTo>
                  <a:pt x="2345" y="50"/>
                </a:lnTo>
                <a:lnTo>
                  <a:pt x="2408" y="101"/>
                </a:lnTo>
                <a:lnTo>
                  <a:pt x="2447" y="143"/>
                </a:lnTo>
                <a:lnTo>
                  <a:pt x="2504" y="172"/>
                </a:lnTo>
                <a:lnTo>
                  <a:pt x="2536" y="179"/>
                </a:lnTo>
                <a:close/>
              </a:path>
            </a:pathLst>
          </a:custGeom>
          <a:solidFill>
            <a:srgbClr val="ff6666"/>
          </a:solidFill>
          <a:ln w="9360">
            <a:solidFill>
              <a:srgbClr val="ff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679840" y="5867280"/>
            <a:ext cx="1440" cy="114480"/>
          </a:xfrm>
          <a:prstGeom prst="line">
            <a:avLst/>
          </a:prstGeom>
          <a:ln w="205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082960" y="6116760"/>
            <a:ext cx="869760" cy="68040"/>
          </a:xfrm>
          <a:custGeom>
            <a:avLst/>
            <a:gdLst/>
            <a:ahLst/>
            <a:rect l="l" t="t" r="r" b="b"/>
            <a:pathLst>
              <a:path w="548" h="43">
                <a:moveTo>
                  <a:pt x="0" y="43"/>
                </a:moveTo>
                <a:lnTo>
                  <a:pt x="95" y="29"/>
                </a:lnTo>
                <a:lnTo>
                  <a:pt x="178" y="15"/>
                </a:lnTo>
                <a:lnTo>
                  <a:pt x="280" y="36"/>
                </a:lnTo>
                <a:lnTo>
                  <a:pt x="344" y="36"/>
                </a:lnTo>
                <a:lnTo>
                  <a:pt x="414" y="29"/>
                </a:lnTo>
                <a:lnTo>
                  <a:pt x="490" y="0"/>
                </a:lnTo>
                <a:lnTo>
                  <a:pt x="529" y="22"/>
                </a:lnTo>
                <a:lnTo>
                  <a:pt x="548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82960" y="6116760"/>
            <a:ext cx="869760" cy="68040"/>
          </a:xfrm>
          <a:custGeom>
            <a:avLst/>
            <a:gdLst/>
            <a:ahLst/>
            <a:rect l="l" t="t" r="r" b="b"/>
            <a:pathLst>
              <a:path w="548" h="43">
                <a:moveTo>
                  <a:pt x="0" y="43"/>
                </a:moveTo>
                <a:lnTo>
                  <a:pt x="95" y="29"/>
                </a:lnTo>
                <a:lnTo>
                  <a:pt x="178" y="15"/>
                </a:lnTo>
                <a:lnTo>
                  <a:pt x="280" y="36"/>
                </a:lnTo>
                <a:lnTo>
                  <a:pt x="344" y="36"/>
                </a:lnTo>
                <a:lnTo>
                  <a:pt x="414" y="29"/>
                </a:lnTo>
                <a:lnTo>
                  <a:pt x="490" y="0"/>
                </a:lnTo>
                <a:lnTo>
                  <a:pt x="529" y="22"/>
                </a:lnTo>
                <a:lnTo>
                  <a:pt x="548" y="43"/>
                </a:lnTo>
                <a:lnTo>
                  <a:pt x="0" y="43"/>
                </a:lnTo>
                <a:close/>
              </a:path>
            </a:pathLst>
          </a:custGeom>
          <a:solidFill>
            <a:srgbClr val="ff6666"/>
          </a:solidFill>
          <a:ln w="9360">
            <a:solidFill>
              <a:srgbClr val="ff66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3559320" y="5651640"/>
            <a:ext cx="585720" cy="182520"/>
          </a:xfrm>
          <a:custGeom>
            <a:avLst/>
            <a:gdLst/>
            <a:ahLst/>
            <a:rect l="l" t="t" r="r" b="b"/>
            <a:pathLst>
              <a:path w="369" h="115">
                <a:moveTo>
                  <a:pt x="0" y="115"/>
                </a:moveTo>
                <a:lnTo>
                  <a:pt x="38" y="72"/>
                </a:lnTo>
                <a:lnTo>
                  <a:pt x="76" y="36"/>
                </a:lnTo>
                <a:lnTo>
                  <a:pt x="102" y="15"/>
                </a:lnTo>
                <a:lnTo>
                  <a:pt x="121" y="7"/>
                </a:lnTo>
                <a:lnTo>
                  <a:pt x="153" y="0"/>
                </a:lnTo>
                <a:lnTo>
                  <a:pt x="172" y="0"/>
                </a:lnTo>
                <a:lnTo>
                  <a:pt x="191" y="0"/>
                </a:lnTo>
                <a:lnTo>
                  <a:pt x="217" y="7"/>
                </a:lnTo>
                <a:lnTo>
                  <a:pt x="248" y="22"/>
                </a:lnTo>
                <a:lnTo>
                  <a:pt x="274" y="43"/>
                </a:lnTo>
                <a:lnTo>
                  <a:pt x="312" y="72"/>
                </a:lnTo>
                <a:lnTo>
                  <a:pt x="357" y="93"/>
                </a:lnTo>
                <a:lnTo>
                  <a:pt x="369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3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3559320" y="5651640"/>
            <a:ext cx="585720" cy="182520"/>
          </a:xfrm>
          <a:custGeom>
            <a:avLst/>
            <a:gdLst/>
            <a:ahLst/>
            <a:rect l="l" t="t" r="r" b="b"/>
            <a:pathLst>
              <a:path w="369" h="115">
                <a:moveTo>
                  <a:pt x="0" y="115"/>
                </a:moveTo>
                <a:lnTo>
                  <a:pt x="38" y="72"/>
                </a:lnTo>
                <a:lnTo>
                  <a:pt x="76" y="36"/>
                </a:lnTo>
                <a:lnTo>
                  <a:pt x="102" y="15"/>
                </a:lnTo>
                <a:lnTo>
                  <a:pt x="121" y="7"/>
                </a:lnTo>
                <a:lnTo>
                  <a:pt x="153" y="0"/>
                </a:lnTo>
                <a:lnTo>
                  <a:pt x="172" y="0"/>
                </a:lnTo>
                <a:lnTo>
                  <a:pt x="191" y="0"/>
                </a:lnTo>
                <a:lnTo>
                  <a:pt x="217" y="7"/>
                </a:lnTo>
                <a:lnTo>
                  <a:pt x="248" y="22"/>
                </a:lnTo>
                <a:lnTo>
                  <a:pt x="274" y="43"/>
                </a:lnTo>
                <a:lnTo>
                  <a:pt x="312" y="72"/>
                </a:lnTo>
                <a:lnTo>
                  <a:pt x="357" y="93"/>
                </a:lnTo>
                <a:lnTo>
                  <a:pt x="369" y="115"/>
                </a:lnTo>
                <a:lnTo>
                  <a:pt x="0" y="115"/>
                </a:lnTo>
                <a:close/>
              </a:path>
            </a:pathLst>
          </a:custGeom>
          <a:solidFill>
            <a:srgbClr val="33ffff"/>
          </a:solidFill>
          <a:ln w="9360">
            <a:solidFill>
              <a:srgbClr val="3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924440" y="5470560"/>
            <a:ext cx="1122480" cy="363600"/>
          </a:xfrm>
          <a:custGeom>
            <a:avLst/>
            <a:gdLst/>
            <a:ahLst/>
            <a:rect l="l" t="t" r="r" b="b"/>
            <a:pathLst>
              <a:path w="707" h="229">
                <a:moveTo>
                  <a:pt x="0" y="229"/>
                </a:moveTo>
                <a:lnTo>
                  <a:pt x="45" y="193"/>
                </a:lnTo>
                <a:lnTo>
                  <a:pt x="83" y="143"/>
                </a:lnTo>
                <a:lnTo>
                  <a:pt x="121" y="71"/>
                </a:lnTo>
                <a:lnTo>
                  <a:pt x="134" y="36"/>
                </a:lnTo>
                <a:lnTo>
                  <a:pt x="178" y="14"/>
                </a:lnTo>
                <a:lnTo>
                  <a:pt x="249" y="7"/>
                </a:lnTo>
                <a:lnTo>
                  <a:pt x="280" y="21"/>
                </a:lnTo>
                <a:lnTo>
                  <a:pt x="319" y="36"/>
                </a:lnTo>
                <a:lnTo>
                  <a:pt x="370" y="28"/>
                </a:lnTo>
                <a:lnTo>
                  <a:pt x="401" y="21"/>
                </a:lnTo>
                <a:lnTo>
                  <a:pt x="421" y="7"/>
                </a:lnTo>
                <a:lnTo>
                  <a:pt x="452" y="0"/>
                </a:lnTo>
                <a:lnTo>
                  <a:pt x="491" y="14"/>
                </a:lnTo>
                <a:lnTo>
                  <a:pt x="516" y="14"/>
                </a:lnTo>
                <a:lnTo>
                  <a:pt x="554" y="28"/>
                </a:lnTo>
                <a:lnTo>
                  <a:pt x="605" y="78"/>
                </a:lnTo>
                <a:lnTo>
                  <a:pt x="624" y="114"/>
                </a:lnTo>
                <a:lnTo>
                  <a:pt x="656" y="157"/>
                </a:lnTo>
                <a:lnTo>
                  <a:pt x="682" y="207"/>
                </a:lnTo>
                <a:lnTo>
                  <a:pt x="707" y="229"/>
                </a:lnTo>
                <a:lnTo>
                  <a:pt x="0" y="229"/>
                </a:lnTo>
                <a:close/>
              </a:path>
            </a:pathLst>
          </a:custGeom>
          <a:solidFill>
            <a:srgbClr val="33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924440" y="5470560"/>
            <a:ext cx="1122480" cy="363600"/>
          </a:xfrm>
          <a:custGeom>
            <a:avLst/>
            <a:gdLst/>
            <a:ahLst/>
            <a:rect l="l" t="t" r="r" b="b"/>
            <a:pathLst>
              <a:path w="707" h="229">
                <a:moveTo>
                  <a:pt x="0" y="229"/>
                </a:moveTo>
                <a:lnTo>
                  <a:pt x="45" y="193"/>
                </a:lnTo>
                <a:lnTo>
                  <a:pt x="83" y="143"/>
                </a:lnTo>
                <a:lnTo>
                  <a:pt x="121" y="71"/>
                </a:lnTo>
                <a:lnTo>
                  <a:pt x="134" y="36"/>
                </a:lnTo>
                <a:lnTo>
                  <a:pt x="178" y="14"/>
                </a:lnTo>
                <a:lnTo>
                  <a:pt x="249" y="7"/>
                </a:lnTo>
                <a:lnTo>
                  <a:pt x="280" y="21"/>
                </a:lnTo>
                <a:lnTo>
                  <a:pt x="319" y="36"/>
                </a:lnTo>
                <a:lnTo>
                  <a:pt x="370" y="28"/>
                </a:lnTo>
                <a:lnTo>
                  <a:pt x="401" y="21"/>
                </a:lnTo>
                <a:lnTo>
                  <a:pt x="421" y="7"/>
                </a:lnTo>
                <a:lnTo>
                  <a:pt x="452" y="0"/>
                </a:lnTo>
                <a:lnTo>
                  <a:pt x="491" y="14"/>
                </a:lnTo>
                <a:lnTo>
                  <a:pt x="516" y="14"/>
                </a:lnTo>
                <a:lnTo>
                  <a:pt x="554" y="28"/>
                </a:lnTo>
                <a:lnTo>
                  <a:pt x="605" y="78"/>
                </a:lnTo>
                <a:lnTo>
                  <a:pt x="624" y="114"/>
                </a:lnTo>
                <a:lnTo>
                  <a:pt x="656" y="157"/>
                </a:lnTo>
                <a:lnTo>
                  <a:pt x="682" y="207"/>
                </a:lnTo>
                <a:lnTo>
                  <a:pt x="707" y="229"/>
                </a:lnTo>
                <a:lnTo>
                  <a:pt x="0" y="229"/>
                </a:lnTo>
                <a:close/>
              </a:path>
            </a:pathLst>
          </a:custGeom>
          <a:solidFill>
            <a:srgbClr val="33ffff"/>
          </a:solidFill>
          <a:ln w="9360">
            <a:solidFill>
              <a:srgbClr val="33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rot="16200000">
            <a:off x="241560" y="3469320"/>
            <a:ext cx="2380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mite allergen (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  <a:ea typeface="ヒラギノ角ゴ Pro W3"/>
              </a:rPr>
              <a:t>ｵ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i="1" lang="en-US" sz="1500" spc="-1" strike="noStrike">
                <a:solidFill>
                  <a:srgbClr val="ffffff"/>
                </a:solidFill>
                <a:latin typeface="Arial"/>
              </a:rPr>
              <a:t>/g of dust)</a:t>
            </a:r>
            <a:endParaRPr b="0" lang="en-US" sz="1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793760" y="6207120"/>
            <a:ext cx="198000" cy="2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66560" y="1039680"/>
            <a:ext cx="7561440" cy="5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Il concetto di “infiammazione minima persistente"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1500" spc="-1" strike="noStrike">
                <a:solidFill>
                  <a:srgbClr val="ff0000"/>
                </a:solidFill>
                <a:latin typeface="Arial"/>
              </a:rPr>
              <a:t>Ciprandi et al, J Allergy Clin Immunol 1996</a:t>
            </a:r>
            <a:endParaRPr b="0" lang="en-US" sz="1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4542120" y="596880"/>
            <a:ext cx="131040" cy="117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7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3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8" name="PlaceHolder 1"/>
          <p:cNvSpPr>
            <a:spLocks noGrp="1"/>
          </p:cNvSpPr>
          <p:nvPr>
            <p:ph/>
          </p:nvPr>
        </p:nvSpPr>
        <p:spPr>
          <a:xfrm>
            <a:off x="4804920" y="3557160"/>
            <a:ext cx="3583080" cy="2792520"/>
          </a:xfrm>
          <a:prstGeom prst="rect">
            <a:avLst/>
          </a:prstGeom>
          <a:solidFill>
            <a:srgbClr val="d9e6ff"/>
          </a:solidFill>
          <a:ln w="50760">
            <a:solidFill>
              <a:srgbClr val="618ffd"/>
            </a:solidFill>
            <a:miter/>
          </a:ln>
        </p:spPr>
        <p:txBody>
          <a:bodyPr lIns="65160" rIns="65160" tIns="25560" bIns="25560" anchor="t">
            <a:normAutofit/>
          </a:bodyPr>
          <a:p>
            <a:pPr marL="249120" indent="0" algn="ctr">
              <a:lnSpc>
                <a:spcPct val="88000"/>
              </a:lnSpc>
              <a:spcBef>
                <a:spcPts val="700"/>
              </a:spcBef>
              <a:buNone/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Moderata-grave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0" algn="ctr">
              <a:lnSpc>
                <a:spcPct val="88000"/>
              </a:lnSpc>
              <a:spcBef>
                <a:spcPts val="437"/>
              </a:spcBef>
              <a:buNone/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i="1" lang="en-US" sz="2100" spc="-1" strike="noStrike">
                <a:solidFill>
                  <a:srgbClr val="fc0128"/>
                </a:solidFill>
                <a:latin typeface="Arial"/>
              </a:rPr>
              <a:t>uno o più dei seguenti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0">
              <a:lnSpc>
                <a:spcPct val="88000"/>
              </a:lnSpc>
              <a:spcBef>
                <a:spcPts val="437"/>
              </a:spcBef>
              <a:buNone/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. Alterazioni del sonno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0">
              <a:lnSpc>
                <a:spcPct val="88000"/>
              </a:lnSpc>
              <a:spcBef>
                <a:spcPts val="437"/>
              </a:spcBef>
              <a:buNone/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. Limitazioni delle attività quotidian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0">
              <a:lnSpc>
                <a:spcPct val="88000"/>
              </a:lnSpc>
              <a:spcBef>
                <a:spcPts val="437"/>
              </a:spcBef>
              <a:buNone/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. Riduzione prestazioni lavorative/scolastich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0">
              <a:lnSpc>
                <a:spcPct val="88000"/>
              </a:lnSpc>
              <a:spcBef>
                <a:spcPts val="437"/>
              </a:spcBef>
              <a:buNone/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. Sintomi gravi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4768920" y="1768320"/>
            <a:ext cx="3655800" cy="1239480"/>
          </a:xfrm>
          <a:prstGeom prst="rect">
            <a:avLst/>
          </a:prstGeom>
          <a:solidFill>
            <a:srgbClr val="d9e6ff"/>
          </a:solidFill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t">
            <a:spAutoFit/>
          </a:bodyPr>
          <a:p>
            <a:pPr marL="262080" indent="-262080" algn="ctr">
              <a:lnSpc>
                <a:spcPct val="89000"/>
              </a:lnSpc>
              <a:spcBef>
                <a:spcPts val="1063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Persistente 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262080" indent="-262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. &gt; 4 giorni/settimana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262080" indent="-262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. e &gt; 4 settiman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812880" y="3544920"/>
            <a:ext cx="3585960" cy="2404440"/>
          </a:xfrm>
          <a:prstGeom prst="rect">
            <a:avLst/>
          </a:prstGeom>
          <a:solidFill>
            <a:srgbClr val="d9e6ff"/>
          </a:solidFill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t">
            <a:spAutoFit/>
          </a:bodyPr>
          <a:p>
            <a:pPr marL="249120" indent="-249120" algn="ctr">
              <a:lnSpc>
                <a:spcPct val="88000"/>
              </a:lnSpc>
              <a:spcBef>
                <a:spcPts val="700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Lieve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-249120">
              <a:lnSpc>
                <a:spcPct val="88000"/>
              </a:lnSpc>
              <a:spcBef>
                <a:spcPts val="437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sonno conservato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-249120">
              <a:lnSpc>
                <a:spcPct val="88000"/>
              </a:lnSpc>
              <a:spcBef>
                <a:spcPts val="437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&amp; nessuna limitazione nelle attività quotidian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-249120">
              <a:lnSpc>
                <a:spcPct val="88000"/>
              </a:lnSpc>
              <a:spcBef>
                <a:spcPts val="437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&amp; normale attività lavorativa o scolastica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249120" indent="-249120">
              <a:lnSpc>
                <a:spcPct val="88000"/>
              </a:lnSpc>
              <a:spcBef>
                <a:spcPts val="437"/>
              </a:spcBef>
              <a:tabLst>
                <a:tab algn="l" pos="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&amp; non sintomi fastidiosi 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812880" y="1754280"/>
            <a:ext cx="3585960" cy="1239480"/>
          </a:xfrm>
          <a:prstGeom prst="rect">
            <a:avLst/>
          </a:prstGeom>
          <a:solidFill>
            <a:srgbClr val="d9e6ff"/>
          </a:solidFill>
          <a:ln w="507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t">
            <a:spAutoFit/>
          </a:bodyPr>
          <a:p>
            <a:pPr algn="ctr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Intermittente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. &lt; 4 giorni/settimana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. </a:t>
            </a:r>
            <a:r>
              <a:rPr b="1" lang="en-US" sz="2100" spc="-1" strike="noStrike" u="sng">
                <a:solidFill>
                  <a:srgbClr val="333333"/>
                </a:solidFill>
                <a:uFillTx/>
                <a:latin typeface="Arial"/>
              </a:rPr>
              <a:t>o</a:t>
            </a:r>
            <a:r>
              <a:rPr b="1" lang="en-US" sz="2100" spc="-1" strike="noStrike">
                <a:solidFill>
                  <a:srgbClr val="333333"/>
                </a:solidFill>
                <a:latin typeface="Arial"/>
              </a:rPr>
              <a:t> &lt; 4 settiman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2"/>
          <a:stretch/>
        </p:blipFill>
        <p:spPr>
          <a:xfrm>
            <a:off x="4267080" y="2971800"/>
            <a:ext cx="650880" cy="731880"/>
          </a:xfrm>
          <a:prstGeom prst="rect">
            <a:avLst/>
          </a:prstGeom>
          <a:ln w="0">
            <a:noFill/>
          </a:ln>
        </p:spPr>
      </p:pic>
      <p:sp>
        <p:nvSpPr>
          <p:cNvPr id="843" name=""/>
          <p:cNvSpPr/>
          <p:nvPr/>
        </p:nvSpPr>
        <p:spPr>
          <a:xfrm>
            <a:off x="844560" y="892080"/>
            <a:ext cx="7601040" cy="5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t">
            <a:spAutoFit/>
          </a:bodyPr>
          <a:p>
            <a:pPr marL="392040" indent="-392040" algn="ctr">
              <a:lnSpc>
                <a:spcPct val="90000"/>
              </a:lnSpc>
              <a:spcBef>
                <a:spcPts val="2075"/>
              </a:spcBef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3700" spc="-1" strike="noStrike">
                <a:solidFill>
                  <a:srgbClr val="0000ff"/>
                </a:solidFill>
                <a:latin typeface="Arial"/>
              </a:rPr>
              <a:t>Classificazione ARIA</a:t>
            </a:r>
            <a:endParaRPr b="0" lang="en-US" sz="3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824040" y="6297480"/>
            <a:ext cx="71593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t">
            <a:spAutoFit/>
          </a:bodyPr>
          <a:p>
            <a:pPr marL="392040" indent="-392040">
              <a:lnSpc>
                <a:spcPct val="97000"/>
              </a:lnSpc>
              <a:spcBef>
                <a:spcPts val="1276"/>
              </a:spcBef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Nei pazienti non trattati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257040" y="1066680"/>
            <a:ext cx="100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Le definizioni d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sistente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mittente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NON sono sovrapponibili né intercambiabili con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quelle di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tagionale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 e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en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3293280" y="3505320"/>
            <a:ext cx="15872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33 (69%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51 (73%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647320" y="3505320"/>
            <a:ext cx="14180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0 (31%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67 (27%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65880" y="3505320"/>
            <a:ext cx="161928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AR (193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 (208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695320" y="3110040"/>
            <a:ext cx="24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NTERMITT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254200" y="3143160"/>
            <a:ext cx="20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ERSIST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609480" y="2708280"/>
            <a:ext cx="7513920" cy="2408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3960720" y="5502240"/>
            <a:ext cx="4229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Durham &amp; Bauchau, Allergy 200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Ciprandi et al. Allergy 200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263520" y="1305000"/>
            <a:ext cx="86932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La rinite allergica, nonostante non sia una patologi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pericolosa per la vita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Aumenta il rischio di sviluppare asm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E’ causa di sensibili costi sociosanitari diretti ed indiret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Altera significativamente l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qualità della vita</a:t>
            </a: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 (QoL) dei soggetti che ne soffrono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La valutazione della Qualità della Vita è un importante parametro complementare alla clinica e alle misure funzionali per la valutazione della gravità e dell’eventuale effetto delle terapi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"/>
          <p:cNvSpPr/>
          <p:nvPr/>
        </p:nvSpPr>
        <p:spPr>
          <a:xfrm>
            <a:off x="475560" y="1197000"/>
            <a:ext cx="3538080" cy="2228400"/>
          </a:xfrm>
          <a:prstGeom prst="rect">
            <a:avLst/>
          </a:prstGeom>
          <a:solidFill>
            <a:srgbClr val="8be8f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SINTOMI TIPICI DI RINITE   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ALLERG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rinorrea acquos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starnuti a salv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ostruzione nasa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prurito nasa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(congiuntivite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867560" y="1197000"/>
            <a:ext cx="3577680" cy="2228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SINTOMI NON TIPICI            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sintomi unilateral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ostruzione nasale isolat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rinorrea purulent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rinorrea posteriore isolat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Dolore , anosmi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epistassi ricorrent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98880" y="4005360"/>
            <a:ext cx="3672360" cy="2228400"/>
          </a:xfrm>
          <a:prstGeom prst="rect">
            <a:avLst/>
          </a:prstGeom>
          <a:solidFill>
            <a:srgbClr val="8be8f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SUGGESTIVI PE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ONGIUNTIVITE ALLERG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sintomi di rinite concomitan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sintomi oculari bilateral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lacrim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prurito ocula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arrossamento ocula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4791600" y="4005360"/>
            <a:ext cx="3672360" cy="22284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NON TIPICI DI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CONGIUNTIVITE ALLERG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completa assenza di rini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sintomi unilateral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fotofobi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bruciore ocula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63de8"/>
                </a:solidFill>
                <a:latin typeface="Arial"/>
              </a:rPr>
              <a:t>- secchezza della congiuntiva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/>
          </p:nvPr>
        </p:nvSpPr>
        <p:spPr>
          <a:xfrm>
            <a:off x="688680" y="1333440"/>
            <a:ext cx="7777080" cy="47570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 fontScale="99000"/>
          </a:bodyPr>
          <a:p>
            <a:pPr marL="388080" indent="0" algn="ctr">
              <a:lnSpc>
                <a:spcPct val="87000"/>
              </a:lnSpc>
              <a:spcBef>
                <a:spcPts val="41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41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41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Arial"/>
              </a:rPr>
              <a:t>1- Perche’ ARIA ?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Arial"/>
              </a:rPr>
              <a:t>2 - Nuova classificazione della rinit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0000ff"/>
                </a:solidFill>
                <a:latin typeface="Arial"/>
              </a:rPr>
              <a:t>3 - Importanza dell’infiammazione nas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Arial"/>
              </a:rPr>
              <a:t>4 - Trattamento basato sull’evidenza speriment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Arial"/>
              </a:rPr>
              <a:t>5 - Impatto della rinite sull’ asma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9" name="" descr=""/>
          <p:cNvPicPr/>
          <p:nvPr/>
        </p:nvPicPr>
        <p:blipFill>
          <a:blip r:embed="rId2"/>
          <a:stretch/>
        </p:blipFill>
        <p:spPr>
          <a:xfrm>
            <a:off x="573120" y="1052640"/>
            <a:ext cx="2539800" cy="2006640"/>
          </a:xfrm>
          <a:prstGeom prst="rect">
            <a:avLst/>
          </a:prstGeom>
          <a:ln w="0">
            <a:noFill/>
          </a:ln>
        </p:spPr>
      </p:pic>
      <p:pic>
        <p:nvPicPr>
          <p:cNvPr id="860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435640" y="2565360"/>
            <a:ext cx="2273400" cy="2160720"/>
          </a:xfrm>
          <a:prstGeom prst="rect">
            <a:avLst/>
          </a:prstGeom>
          <a:ln w="0">
            <a:noFill/>
          </a:ln>
        </p:spPr>
      </p:pic>
      <p:pic>
        <p:nvPicPr>
          <p:cNvPr id="861" name="" descr=""/>
          <p:cNvPicPr/>
          <p:nvPr/>
        </p:nvPicPr>
        <p:blipFill>
          <a:blip r:embed="rId5"/>
          <a:stretch/>
        </p:blipFill>
        <p:spPr>
          <a:xfrm>
            <a:off x="755640" y="3989520"/>
            <a:ext cx="2540160" cy="2031840"/>
          </a:xfrm>
          <a:prstGeom prst="rect">
            <a:avLst/>
          </a:prstGeom>
          <a:ln w="0">
            <a:noFill/>
          </a:ln>
        </p:spPr>
      </p:pic>
      <p:sp>
        <p:nvSpPr>
          <p:cNvPr id="862" name=""/>
          <p:cNvSpPr/>
          <p:nvPr/>
        </p:nvSpPr>
        <p:spPr>
          <a:xfrm>
            <a:off x="5221800" y="4726080"/>
            <a:ext cx="27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Mucosa nasale normal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684000" y="3213000"/>
            <a:ext cx="259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Rinite allergica con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Infiltrazione eosinofil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0200" y="1457280"/>
            <a:ext cx="25318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ARGOMENT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Farmacoterapia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(e anti-IgE)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Classificazion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Controllo ambiental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Medicine alternativ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Ruolo delle IgE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ARIA in athletes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Immunoterapi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01600" y="76212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HO ARIA: Aggiornamenti in corso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354480" y="1457280"/>
            <a:ext cx="19836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RESPONSABIL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Intl Board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J. Mullol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A. Custovic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G. Passalacqu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J. Bousquet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S.Bonini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S. Durham/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G.Passalacqua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717880" y="1447920"/>
            <a:ext cx="2529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STATO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Submitted Allergy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Bozza final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Allergy 200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In press JACI 2006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In press Allergy 2006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In press, Allergy 2006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Prima bozz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63de8"/>
                </a:solidFill>
                <a:latin typeface="Arial"/>
              </a:rPr>
              <a:t>(atteso fine 2006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1844640"/>
            <a:ext cx="71276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1557360"/>
            <a:ext cx="0" cy="4608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508720" y="1557360"/>
            <a:ext cx="0" cy="46083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/>
          </p:nvPr>
        </p:nvSpPr>
        <p:spPr>
          <a:xfrm>
            <a:off x="688680" y="1319040"/>
            <a:ext cx="7777080" cy="47570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 fontScale="99000"/>
          </a:bodyPr>
          <a:p>
            <a:pPr marL="388080" indent="0" algn="ctr">
              <a:lnSpc>
                <a:spcPct val="87000"/>
              </a:lnSpc>
              <a:spcBef>
                <a:spcPts val="41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41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41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1- Perche’ ARIA ?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2 - Nuova classificazione della rinit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3 - Importanza dell’infiammazione nas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4 - Trattamento basato sull’evidenza speriment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5 - Impatto della rinite sull’ asma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3414600" y="2724120"/>
            <a:ext cx="812880" cy="914400"/>
          </a:xfrm>
          <a:prstGeom prst="donut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2541600" y="1676520"/>
            <a:ext cx="4011480" cy="436860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152640" y="3314880"/>
            <a:ext cx="3512520" cy="111276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Farmacoterapia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it-IT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900" spc="-1" strike="noStrike">
                <a:solidFill>
                  <a:srgbClr val="ffffff"/>
                </a:solidFill>
                <a:latin typeface="Arial"/>
              </a:rPr>
              <a:t>sicurezza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it-IT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900" spc="-1" strike="noStrike">
                <a:solidFill>
                  <a:srgbClr val="ffffff"/>
                </a:solidFill>
                <a:latin typeface="Arial"/>
              </a:rPr>
              <a:t>efficacia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it-IT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1900" spc="-1" strike="noStrike">
                <a:solidFill>
                  <a:srgbClr val="ffffff"/>
                </a:solidFill>
                <a:latin typeface="Arial"/>
              </a:rPr>
              <a:t>facilità di somministrazione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5838840" y="3189240"/>
            <a:ext cx="3204720" cy="13586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Immunoterapia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efficacia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prescrizione specialistica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buClr>
                <a:srgbClr val="ffffff"/>
              </a:buClr>
              <a:buFont typeface="Arial"/>
              <a:buChar char="•"/>
              <a:tabLst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può modificare la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toria naturale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3269520" y="1338120"/>
            <a:ext cx="2526840" cy="11905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Allontanamento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dell’allergene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indicato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quando possibile 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311640" y="5460840"/>
            <a:ext cx="2441520" cy="94464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Educazione del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paziente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i="1" lang="en-US" sz="1900" spc="-1" strike="noStrike">
                <a:solidFill>
                  <a:srgbClr val="ffffff"/>
                </a:solidFill>
                <a:latin typeface="Arial"/>
              </a:rPr>
              <a:t>Sempre indicata 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934080" y="3573360"/>
            <a:ext cx="1581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4900" spc="-1" strike="noStrike">
                <a:solidFill>
                  <a:srgbClr val="ff0000"/>
                </a:solidFill>
                <a:latin typeface="Arial"/>
              </a:rPr>
              <a:t>costi</a:t>
            </a:r>
            <a:endParaRPr b="0" lang="en-US" sz="4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914040" y="836640"/>
            <a:ext cx="7924680" cy="57844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 algn="ctr">
              <a:lnSpc>
                <a:spcPct val="95000"/>
              </a:lnSpc>
              <a:spcBef>
                <a:spcPts val="1738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900" spc="-1" strike="noStrike">
                <a:solidFill>
                  <a:srgbClr val="ff0000"/>
                </a:solidFill>
                <a:latin typeface="Arial"/>
              </a:rPr>
              <a:t>Categorie di prova sperimentale  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Shekelle et al, BMJ 1999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95000"/>
              </a:lnSpc>
              <a:spcBef>
                <a:spcPts val="1012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Ia  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risultati da meta-analisi o da più studi randomizzati e controllat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Ib 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risultati da almeno uno studio controllato e randomizzato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II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risultati da almeno uno studio controllato ma non  randomizzato  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III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risultati da studi descrittivi, studi di confronto e studi caso-controllo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IV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pareri ed opinioni di gruppi di esperti, o   esperienze cliniche o case reports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 flipV="1">
            <a:off x="378000" y="2487600"/>
            <a:ext cx="431640" cy="3781440"/>
          </a:xfrm>
          <a:prstGeom prst="downArrow">
            <a:avLst>
              <a:gd name="adj1" fmla="val 68630"/>
              <a:gd name="adj2" fmla="val 181337"/>
            </a:avLst>
          </a:prstGeom>
          <a:gradFill rotWithShape="0">
            <a:gsLst>
              <a:gs pos="0">
                <a:srgbClr val="8be8f4"/>
              </a:gs>
              <a:gs pos="100000">
                <a:srgbClr val="406a7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"/>
          <p:cNvSpPr/>
          <p:nvPr/>
        </p:nvSpPr>
        <p:spPr>
          <a:xfrm>
            <a:off x="457200" y="2666880"/>
            <a:ext cx="6094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57200" y="3352680"/>
            <a:ext cx="6094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457200" y="4572000"/>
            <a:ext cx="609480" cy="5335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" y="5791320"/>
            <a:ext cx="609480" cy="5331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579240" y="1226880"/>
            <a:ext cx="7924680" cy="55897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 algn="ctr">
              <a:lnSpc>
                <a:spcPct val="113000"/>
              </a:lnSpc>
              <a:spcBef>
                <a:spcPts val="2064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900" spc="-1" strike="noStrike">
                <a:solidFill>
                  <a:srgbClr val="ff0000"/>
                </a:solidFill>
                <a:latin typeface="Arial"/>
              </a:rPr>
              <a:t>Grado di forza della prova speriment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113000"/>
              </a:lnSpc>
              <a:spcBef>
                <a:spcPts val="1774"/>
              </a:spcBef>
              <a:buNone/>
              <a:tabLst>
                <a:tab algn="l" pos="0"/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Shekelle et al, BMJ 1999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113000"/>
              </a:lnSpc>
              <a:spcBef>
                <a:spcPts val="1987"/>
              </a:spcBef>
              <a:buClr>
                <a:srgbClr val="8be8f4"/>
              </a:buClr>
              <a:buFont typeface="Arial"/>
              <a:buChar char="A"/>
              <a:tabLst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Basata su dati di categoria 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113000"/>
              </a:lnSpc>
              <a:spcBef>
                <a:spcPts val="1987"/>
              </a:spcBef>
              <a:buClr>
                <a:srgbClr val="8be8f4"/>
              </a:buClr>
              <a:buFont typeface="Arial"/>
              <a:buChar char="B"/>
              <a:tabLst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Basata direttamente su dati di categoria II  o estrapolata da dati di categoria 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113000"/>
              </a:lnSpc>
              <a:spcBef>
                <a:spcPts val="1987"/>
              </a:spcBef>
              <a:buClr>
                <a:srgbClr val="8be8f4"/>
              </a:buClr>
              <a:buFont typeface="Arial"/>
              <a:buChar char="C"/>
              <a:tabLst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Basata direttamente su dati di categoria III o estrapolata da dati di categoria I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113000"/>
              </a:lnSpc>
              <a:spcBef>
                <a:spcPts val="1987"/>
              </a:spcBef>
              <a:buClr>
                <a:srgbClr val="8be8f4"/>
              </a:buClr>
              <a:buFont typeface="Arial"/>
              <a:buChar char="D"/>
              <a:tabLst>
                <a:tab algn="l" pos="56196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Basata direttamente su dati di categoria IV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/>
          </p:nvPr>
        </p:nvSpPr>
        <p:spPr>
          <a:xfrm>
            <a:off x="71280" y="166680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Le misure intese a ridurre la concentrazione ambientale di allergene indoor (acari e animali domestici) andrebbero sempre applicate, nonostante le evidenze sperimentali attualmente disponibili rimangano controver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Infatti, sebbene molte delle misure igieniche siano in grado di ridurre la concentrazione ambientale di allergeni, poche di esse da sole hanno un effetto clinico sui sintomi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Al momento, la misura più efficace dal punto di vista clinico è l’utilizzo di fodere impermeabili 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). I filtri HEPA possono ridurre i sintomi da esposizione ad allergeni animali indoor (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L’utilizzo di materassi in lattice non costituisce un vantaggio rispetto ai materiali tradizionali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344040" y="6162840"/>
            <a:ext cx="489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Custovic &amp; Gerth van Wijck, Allergy 2005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760" y="952560"/>
            <a:ext cx="437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EVENZIONE AMBIENT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189000" y="1819440"/>
            <a:ext cx="8820000" cy="492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883" name=""/>
          <p:cNvGraphicFramePr/>
          <p:nvPr/>
        </p:nvGraphicFramePr>
        <p:xfrm>
          <a:off x="343080" y="1990800"/>
          <a:ext cx="8229600" cy="4263840"/>
        </p:xfrm>
        <a:graphic>
          <a:graphicData uri="http://schemas.openxmlformats.org/drawingml/2006/table">
            <a:tbl>
              <a:tblPr/>
              <a:tblGrid>
                <a:gridCol w="3971880"/>
                <a:gridCol w="2257560"/>
                <a:gridCol w="2000160"/>
              </a:tblGrid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Misura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Effetto sui livelli 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Di allergene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Effetto clinico 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ACARI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Coprimaterassi/cuscini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a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Lavaggio lenzuola a caldo (55-60</a:t>
                      </a:r>
                      <a:r>
                        <a:rPr b="0" lang="en-GB" sz="1600" spc="-1" strike="noStrike" baseline="30000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C)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Rimozione tappeti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Acaricidi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II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Pulizia con aspirapolvere a filtri HEPA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I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EPITELI ANIMALI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Allontanamento animale da casa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Allontanamento dalla stanza da letto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Filtri aria HEPA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Lavaggio dell’animale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Ib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Rimozione tappeti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8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0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Pulizia con aspirapolvere a filtri HEPA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80000"/>
                        </a:lnSpc>
                        <a:tabLst>
                          <a:tab algn="l" pos="0"/>
                          <a:tab algn="l" pos="762120"/>
                          <a:tab algn="l" pos="1523880"/>
                          <a:tab algn="l" pos="2286000"/>
                          <a:tab algn="l" pos="3048120"/>
                          <a:tab algn="l" pos="3809880"/>
                          <a:tab algn="l" pos="4572000"/>
                          <a:tab algn="l" pos="5334120"/>
                          <a:tab algn="l" pos="6095880"/>
                          <a:tab algn="l" pos="6858000"/>
                          <a:tab algn="l" pos="7620120"/>
                          <a:tab algn="l" pos="8381880"/>
                          <a:tab algn="l" pos="9144000"/>
                          <a:tab algn="l" pos="9906120"/>
                          <a:tab algn="l" pos="10667880"/>
                        </a:tabLst>
                      </a:pPr>
                      <a:r>
                        <a:rPr b="1" lang="en-GB" sz="1600" spc="-1" strike="noStrike">
                          <a:solidFill>
                            <a:srgbClr val="0066ff"/>
                          </a:solidFill>
                          <a:latin typeface="Times New Roman"/>
                          <a:ea typeface="Times New Roman"/>
                        </a:rPr>
                        <a:t>IV</a:t>
                      </a:r>
                      <a:endParaRPr b="0" lang="en-US" sz="16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84" name=""/>
          <p:cNvSpPr/>
          <p:nvPr/>
        </p:nvSpPr>
        <p:spPr>
          <a:xfrm>
            <a:off x="5897520" y="6275520"/>
            <a:ext cx="27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63de8"/>
                </a:solidFill>
                <a:latin typeface="Arial"/>
              </a:rPr>
              <a:t>Custovic, Allergy 200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1064520" y="990720"/>
            <a:ext cx="642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LIVELLI DI EVIDENZA DELL’EFFICACIA DI ALCU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ISURE DI PREVEN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106200" y="1717560"/>
            <a:ext cx="884304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Gli antistaminici di II generazione sono efficaci su rinorrea,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tarnuti e prurito. Tuttavia, è stato osservato che alcuni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di loro migliorano anche l’ostruzion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Nayak, Allergy 2001; Wilson, Allergy 200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Simons, JACI 2003; Potter, Allergy 200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Hore, Clin Exp Allergy 200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 corticosteroidi nasali sono efficaci sull’ ostruzion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Il massimo effetto richiede 24-48 ore, ma possono agire sui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sintomi già a partire dalle 12 ore circa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it-IT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it-IT" sz="2000" spc="-1" strike="noStrike">
                <a:solidFill>
                  <a:srgbClr val="063de8"/>
                </a:solidFill>
                <a:latin typeface="Arial"/>
              </a:rPr>
              <a:t>Jen, Ann Allergy Asthma Immunol 200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63de8"/>
                </a:solidFill>
                <a:latin typeface="Arial"/>
              </a:rPr>
              <a:t>Denkewicz, JACI 200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764720" y="836640"/>
            <a:ext cx="503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TTAMENTI FARMACOLOGIC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" descr=""/>
          <p:cNvPicPr/>
          <p:nvPr/>
        </p:nvPicPr>
        <p:blipFill>
          <a:blip r:embed="rId2"/>
          <a:stretch/>
        </p:blipFill>
        <p:spPr>
          <a:xfrm>
            <a:off x="611280" y="1568520"/>
            <a:ext cx="7542000" cy="2502000"/>
          </a:xfrm>
          <a:prstGeom prst="rect">
            <a:avLst/>
          </a:prstGeom>
          <a:ln w="0">
            <a:noFill/>
          </a:ln>
        </p:spPr>
      </p:pic>
      <p:pic>
        <p:nvPicPr>
          <p:cNvPr id="889" name="" descr=""/>
          <p:cNvPicPr/>
          <p:nvPr/>
        </p:nvPicPr>
        <p:blipFill>
          <a:blip r:embed="rId3"/>
          <a:stretch/>
        </p:blipFill>
        <p:spPr>
          <a:xfrm>
            <a:off x="611280" y="4235400"/>
            <a:ext cx="7542000" cy="2500200"/>
          </a:xfrm>
          <a:prstGeom prst="rect">
            <a:avLst/>
          </a:prstGeom>
          <a:ln w="0">
            <a:noFill/>
          </a:ln>
        </p:spPr>
      </p:pic>
      <p:sp>
        <p:nvSpPr>
          <p:cNvPr id="890" name=""/>
          <p:cNvSpPr/>
          <p:nvPr/>
        </p:nvSpPr>
        <p:spPr>
          <a:xfrm>
            <a:off x="0" y="838080"/>
            <a:ext cx="797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Meta analisi dell’efficacia degli antistaminici orali sull’ostruzione nasal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della rinite perenne valutata dal paziente e dal medico. </a:t>
            </a:r>
            <a:r>
              <a:rPr b="1" i="1" lang="it-IT" sz="1800" spc="-1" strike="noStrike">
                <a:solidFill>
                  <a:srgbClr val="063de8"/>
                </a:solidFill>
                <a:latin typeface="Arial"/>
              </a:rPr>
              <a:t>Hore, CEA 2005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4716360" y="3697200"/>
            <a:ext cx="4006800" cy="3032280"/>
          </a:xfrm>
          <a:prstGeom prst="rect">
            <a:avLst/>
          </a:prstGeom>
          <a:ln w="0">
            <a:noFill/>
          </a:ln>
        </p:spPr>
      </p:pic>
      <p:grpSp>
        <p:nvGrpSpPr>
          <p:cNvPr id="892" name=""/>
          <p:cNvGrpSpPr/>
          <p:nvPr/>
        </p:nvGrpSpPr>
        <p:grpSpPr>
          <a:xfrm>
            <a:off x="4716360" y="620640"/>
            <a:ext cx="4105440" cy="2952720"/>
            <a:chOff x="4716360" y="620640"/>
            <a:chExt cx="4105440" cy="2952720"/>
          </a:xfrm>
        </p:grpSpPr>
        <p:pic>
          <p:nvPicPr>
            <p:cNvPr id="893" name="" descr=""/>
            <p:cNvPicPr/>
            <p:nvPr/>
          </p:nvPicPr>
          <p:blipFill>
            <a:blip r:embed="rId3"/>
            <a:stretch/>
          </p:blipFill>
          <p:spPr>
            <a:xfrm>
              <a:off x="4716360" y="620640"/>
              <a:ext cx="410544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4" name=""/>
            <p:cNvSpPr/>
            <p:nvPr/>
          </p:nvSpPr>
          <p:spPr>
            <a:xfrm>
              <a:off x="4716360" y="620640"/>
              <a:ext cx="4104720" cy="293724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895" name=""/>
          <p:cNvGrpSpPr/>
          <p:nvPr/>
        </p:nvGrpSpPr>
        <p:grpSpPr>
          <a:xfrm>
            <a:off x="179280" y="3716280"/>
            <a:ext cx="4321440" cy="3025800"/>
            <a:chOff x="179280" y="3716280"/>
            <a:chExt cx="4321440" cy="3025800"/>
          </a:xfrm>
        </p:grpSpPr>
        <p:pic>
          <p:nvPicPr>
            <p:cNvPr id="896" name="" descr=""/>
            <p:cNvPicPr/>
            <p:nvPr/>
          </p:nvPicPr>
          <p:blipFill>
            <a:blip r:embed="rId4"/>
            <a:stretch/>
          </p:blipFill>
          <p:spPr>
            <a:xfrm>
              <a:off x="179280" y="3738600"/>
              <a:ext cx="4320360" cy="300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179280" y="3716280"/>
              <a:ext cx="4321440" cy="302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618480" y="1268280"/>
            <a:ext cx="3038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Meta-analisi deg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Antileucotrienici nell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rini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Wilson, AJM 2003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4699080" y="3716280"/>
            <a:ext cx="4037040" cy="30258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0" name=""/>
          <p:cNvGraphicFramePr/>
          <p:nvPr/>
        </p:nvGraphicFramePr>
        <p:xfrm>
          <a:off x="-3240" y="1303200"/>
          <a:ext cx="4122720" cy="2681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" y="1303200"/>
                    <a:ext cx="4122720" cy="26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2" name=""/>
          <p:cNvSpPr/>
          <p:nvPr/>
        </p:nvSpPr>
        <p:spPr>
          <a:xfrm>
            <a:off x="6781680" y="4741920"/>
            <a:ext cx="25146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063de8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Verdana"/>
              </a:rPr>
              <a:t> </a:t>
            </a:r>
            <a:r>
              <a:rPr b="1" lang="it-IT" sz="1600" spc="-1" strike="noStrike">
                <a:solidFill>
                  <a:srgbClr val="063de8"/>
                </a:solidFill>
                <a:latin typeface="Verdana"/>
              </a:rPr>
              <a:t>satisfied pt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63de8"/>
                </a:solidFill>
                <a:latin typeface="Verdana"/>
              </a:rPr>
              <a:t>- unsatisfied pts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477120" y="4818240"/>
            <a:ext cx="304560" cy="152280"/>
          </a:xfrm>
          <a:prstGeom prst="rect">
            <a:avLst/>
          </a:prstGeom>
          <a:solidFill>
            <a:srgbClr val="f36884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477120" y="5199120"/>
            <a:ext cx="304560" cy="152280"/>
          </a:xfrm>
          <a:prstGeom prst="rect">
            <a:avLst/>
          </a:prstGeom>
          <a:solidFill>
            <a:srgbClr val="fda254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371600" y="1389240"/>
            <a:ext cx="304920" cy="0"/>
          </a:xfrm>
          <a:prstGeom prst="line">
            <a:avLst/>
          </a:prstGeom>
          <a:ln w="1908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1371600" y="1627200"/>
            <a:ext cx="304920" cy="0"/>
          </a:xfrm>
          <a:prstGeom prst="line">
            <a:avLst/>
          </a:prstGeom>
          <a:ln w="1908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07" name=""/>
          <p:cNvGraphicFramePr/>
          <p:nvPr/>
        </p:nvGraphicFramePr>
        <p:xfrm>
          <a:off x="5102280" y="1379520"/>
          <a:ext cx="4044960" cy="26305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102280" y="1379520"/>
                    <a:ext cx="4044960" cy="263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9" name=""/>
          <p:cNvSpPr/>
          <p:nvPr/>
        </p:nvSpPr>
        <p:spPr>
          <a:xfrm>
            <a:off x="3657600" y="2608200"/>
            <a:ext cx="2133720" cy="0"/>
          </a:xfrm>
          <a:prstGeom prst="line">
            <a:avLst/>
          </a:prstGeom>
          <a:ln w="76320">
            <a:solidFill>
              <a:srgbClr val="0fa2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648320" y="838080"/>
            <a:ext cx="426708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63de8"/>
                </a:solidFill>
                <a:latin typeface="Verdana"/>
              </a:rPr>
              <a:t>Phase II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50 runners pts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loratadine 10 mg once a day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6 blockers pts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mometasone 200 </a:t>
            </a:r>
            <a:r>
              <a:rPr b="1" lang="it-IT" sz="10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g once a day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943600" y="1465200"/>
            <a:ext cx="457200" cy="0"/>
          </a:xfrm>
          <a:prstGeom prst="line">
            <a:avLst/>
          </a:prstGeom>
          <a:ln w="1908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477120" y="131292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rot="10852800">
            <a:off x="5790600" y="1312560"/>
            <a:ext cx="75960" cy="30492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72960" y="3430440"/>
            <a:ext cx="4267440" cy="10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63de8"/>
                </a:solidFill>
                <a:latin typeface="Verdana"/>
              </a:rPr>
              <a:t>Phase III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20 runners pts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loratadine 10 mg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4 blockers pts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mometasone 200 </a:t>
            </a:r>
            <a:r>
              <a:rPr b="1" lang="it-IT" sz="10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g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montelukast 10 mg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915" name=""/>
          <p:cNvGraphicFramePr/>
          <p:nvPr/>
        </p:nvGraphicFramePr>
        <p:xfrm>
          <a:off x="65160" y="3772080"/>
          <a:ext cx="4427640" cy="2879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1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5160" y="3772080"/>
                    <a:ext cx="442764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7" name=""/>
          <p:cNvSpPr/>
          <p:nvPr/>
        </p:nvSpPr>
        <p:spPr>
          <a:xfrm flipH="1">
            <a:off x="3924360" y="3068640"/>
            <a:ext cx="1905120" cy="1371600"/>
          </a:xfrm>
          <a:prstGeom prst="line">
            <a:avLst/>
          </a:prstGeom>
          <a:ln w="76320">
            <a:solidFill>
              <a:srgbClr val="0fa2b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125800" y="3963960"/>
            <a:ext cx="152280" cy="457200"/>
          </a:xfrm>
          <a:custGeom>
            <a:avLst/>
            <a:gdLst>
              <a:gd name="textAreaLeft" fmla="*/ 97200 w 152280"/>
              <a:gd name="textAreaRight" fmla="*/ 152640 w 15228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674720" y="4143240"/>
            <a:ext cx="374760" cy="49320"/>
          </a:xfrm>
          <a:prstGeom prst="line">
            <a:avLst/>
          </a:prstGeom>
          <a:ln w="1908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 rot="10852800">
            <a:off x="1515600" y="3963600"/>
            <a:ext cx="76320" cy="304920"/>
          </a:xfrm>
          <a:custGeom>
            <a:avLst/>
            <a:gdLst>
              <a:gd name="textAreaLeft" fmla="*/ 48960 w 76320"/>
              <a:gd name="textAreaRight" fmla="*/ 76320 w 76320"/>
              <a:gd name="textAreaTop" fmla="*/ 7920 h 304920"/>
              <a:gd name="textAreaBottom" fmla="*/ 29700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63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4610880" y="4503600"/>
            <a:ext cx="1093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14 runners pt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2 blockers pts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86360" y="4732200"/>
            <a:ext cx="457200" cy="0"/>
          </a:xfrm>
          <a:prstGeom prst="line">
            <a:avLst/>
          </a:prstGeom>
          <a:ln w="28440">
            <a:solidFill>
              <a:srgbClr val="063de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821520" y="5950080"/>
            <a:ext cx="791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Montelukast as an adjuvant to mainstay therapy in patients with SAR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63de8"/>
                </a:solidFill>
                <a:latin typeface="Arial"/>
              </a:rPr>
              <a:t>Topuz &amp; Ogmen, JACI 200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-76320" y="855720"/>
            <a:ext cx="47246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63de8"/>
                </a:solidFill>
                <a:latin typeface="Verdana"/>
              </a:rPr>
              <a:t>Phase I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63de8"/>
                </a:solidFill>
                <a:latin typeface="Verdana"/>
              </a:rPr>
              <a:t>Treatment tailored on rhinitis: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108 runners pts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loratadine 10 mg once a day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42 blockers pts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	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mometasone 200 </a:t>
            </a:r>
            <a:r>
              <a:rPr b="1" lang="it-IT" sz="1000" spc="-1" strike="noStrike">
                <a:solidFill>
                  <a:srgbClr val="063de8"/>
                </a:solidFill>
                <a:latin typeface="Symbol"/>
                <a:ea typeface="Symbol"/>
              </a:rPr>
              <a:t></a:t>
            </a:r>
            <a:r>
              <a:rPr b="1" lang="it-IT" sz="1000" spc="-1" strike="noStrike">
                <a:solidFill>
                  <a:srgbClr val="063de8"/>
                </a:solidFill>
                <a:latin typeface="Verdana"/>
              </a:rPr>
              <a:t>g once a day</a:t>
            </a:r>
            <a:endParaRPr b="0" lang="en-US" sz="1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560" y="1104840"/>
            <a:ext cx="7786440" cy="55101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algn="ctr">
              <a:lnSpc>
                <a:spcPct val="91000"/>
              </a:lnSpc>
              <a:spcBef>
                <a:spcPts val="975"/>
              </a:spcBef>
              <a:buClr>
                <a:srgbClr val="ff9933"/>
              </a:buClr>
              <a:buFont typeface="Arial"/>
              <a:buChar char="•"/>
              <a:tabLst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900" spc="-1" strike="noStrike">
                <a:solidFill>
                  <a:srgbClr val="ff0066"/>
                </a:solidFill>
                <a:latin typeface="Arial"/>
              </a:rPr>
              <a:t>L’iniziativa ARIA e’ stata sviluppata:</a:t>
            </a:r>
            <a:r>
              <a:rPr b="1" lang="it-IT" sz="17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9933"/>
              </a:buClr>
              <a:buSzPct val="50000"/>
              <a:buFont typeface="Webdings" charset="2"/>
              <a:buChar char=""/>
              <a:tabLst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come uno stato dell’arte per gli specialisti, i medici di</a:t>
            </a: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medicina generale e per tutti gli operatori sanitari,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9933"/>
              </a:buClr>
              <a:buSzPct val="50000"/>
              <a:buFont typeface="Webdings" charset="2"/>
              <a:buChar char=""/>
              <a:tabLst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per aggiornare le conoscenze sulla rinite allergica,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9933"/>
              </a:buClr>
              <a:buSzPct val="50000"/>
              <a:buFont typeface="Webdings" charset="2"/>
              <a:buChar char=""/>
              <a:tabLst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per sottolineare l’impatto che la rinite ha sull’asma,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9933"/>
              </a:buClr>
              <a:buSzPct val="50000"/>
              <a:buFont typeface="Webdings" charset="2"/>
              <a:buChar char=""/>
              <a:tabLst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per fornire una revisione evidence-based sulle procedure diagnostiche,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9933"/>
              </a:buClr>
              <a:buSzPct val="50000"/>
              <a:buFont typeface="Webdings" charset="2"/>
              <a:buChar char=""/>
              <a:tabLst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per fornire una revisione evidence-based sui trattamenti disponibili,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9933"/>
              </a:buClr>
              <a:buSzPct val="50000"/>
              <a:buFont typeface="Webdings" charset="2"/>
              <a:buChar char=""/>
              <a:tabLst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per proporre un approccio a gradini per la gestione della malattia,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buClr>
                <a:srgbClr val="ff9933"/>
              </a:buClr>
              <a:buSzPct val="50000"/>
              <a:buFont typeface="Webdings" charset="2"/>
              <a:buChar char=""/>
              <a:tabLst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per precisare l’impatto della malattia nei paesi in via di sviluppo e per adattare opportunamente le linee guida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5280" y="1773360"/>
            <a:ext cx="8137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Nella rinite gli antileucotrienici non sono superiori agli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antistaminici in termini di efficacia e sono inferiori agl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steroidi topici (</a:t>
            </a:r>
            <a:r>
              <a:rPr b="1" lang="it-IT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Possono essere utilizzati nel trattamento della rini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quando coesistono i sintomi di asma bronchiale (</a:t>
            </a:r>
            <a:r>
              <a:rPr b="1" lang="it-IT" sz="2400" spc="-1" strike="noStrike">
                <a:solidFill>
                  <a:srgbClr val="ff0066"/>
                </a:solidFill>
                <a:latin typeface="Arial"/>
              </a:rPr>
              <a:t>A</a:t>
            </a: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Possono incrementare il beneficio ottenuto con la terapi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tradizionale (</a:t>
            </a:r>
            <a:r>
              <a:rPr b="1" lang="it-IT" sz="2400" spc="-1" strike="noStrike">
                <a:solidFill>
                  <a:srgbClr val="ff0066"/>
                </a:solidFill>
                <a:latin typeface="Arial"/>
              </a:rPr>
              <a:t>B</a:t>
            </a: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Il profilo di sicurezza sembra essere ottimale. Il rappor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costo/beneficio deve essere considerat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401760" y="981000"/>
            <a:ext cx="37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TILEUCOTRIENICI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"/>
          <p:cNvSpPr/>
          <p:nvPr/>
        </p:nvSpPr>
        <p:spPr>
          <a:xfrm>
            <a:off x="324000" y="4103640"/>
            <a:ext cx="5688000" cy="2449440"/>
          </a:xfrm>
          <a:prstGeom prst="rect">
            <a:avLst/>
          </a:prstGeom>
          <a:gradFill rotWithShape="0">
            <a:gsLst>
              <a:gs pos="0">
                <a:srgbClr val="3399ff"/>
              </a:gs>
              <a:gs pos="100000">
                <a:srgbClr val="174675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24000" y="1266840"/>
            <a:ext cx="5688000" cy="244944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100000">
                <a:srgbClr val="754600"/>
              </a:gs>
            </a:gsLst>
            <a:lin ang="5400000"/>
          </a:gradFill>
          <a:ln w="38160">
            <a:solidFill>
              <a:srgbClr val="33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542520" y="1482840"/>
            <a:ext cx="442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CIT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Rinite:  Evidenza IA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sma: Evidenza IA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13800" y="4379760"/>
            <a:ext cx="442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SLIT 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Rinite:  Evidenza IA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Asma: Evidenza IB</a:t>
            </a:r>
            <a:endParaRPr b="0" lang="en-US" sz="36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31" name=""/>
          <p:cNvGrpSpPr/>
          <p:nvPr/>
        </p:nvGrpSpPr>
        <p:grpSpPr>
          <a:xfrm>
            <a:off x="5364000" y="2706840"/>
            <a:ext cx="3285360" cy="485640"/>
            <a:chOff x="5364000" y="2706840"/>
            <a:chExt cx="3285360" cy="485640"/>
          </a:xfrm>
        </p:grpSpPr>
        <p:sp>
          <p:nvSpPr>
            <p:cNvPr id="932" name=""/>
            <p:cNvSpPr/>
            <p:nvPr/>
          </p:nvSpPr>
          <p:spPr>
            <a:xfrm>
              <a:off x="6302880" y="2706840"/>
              <a:ext cx="23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TA ANALISI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364000" y="270684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34" name=""/>
          <p:cNvGrpSpPr/>
          <p:nvPr/>
        </p:nvGrpSpPr>
        <p:grpSpPr>
          <a:xfrm>
            <a:off x="5364000" y="4967280"/>
            <a:ext cx="3285360" cy="485640"/>
            <a:chOff x="5364000" y="4967280"/>
            <a:chExt cx="3285360" cy="485640"/>
          </a:xfrm>
        </p:grpSpPr>
        <p:sp>
          <p:nvSpPr>
            <p:cNvPr id="935" name=""/>
            <p:cNvSpPr/>
            <p:nvPr/>
          </p:nvSpPr>
          <p:spPr>
            <a:xfrm>
              <a:off x="6302880" y="4967280"/>
              <a:ext cx="23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META ANALISI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5364000" y="4967280"/>
              <a:ext cx="976320" cy="485640"/>
            </a:xfrm>
            <a:prstGeom prst="leftArrow">
              <a:avLst>
                <a:gd name="adj1" fmla="val 50000"/>
                <a:gd name="adj2" fmla="val 50259"/>
              </a:avLst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937" name=""/>
          <p:cNvSpPr/>
          <p:nvPr/>
        </p:nvSpPr>
        <p:spPr>
          <a:xfrm>
            <a:off x="6302880" y="2058840"/>
            <a:ext cx="23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TA ANALIS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5364000" y="20588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0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6135480" y="1700280"/>
            <a:ext cx="264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Durham, Allergy 2006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6181560" y="3068640"/>
            <a:ext cx="28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Abramson, Allergy 200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6249240" y="4556160"/>
            <a:ext cx="250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ff"/>
                </a:solidFill>
                <a:latin typeface="Arial"/>
              </a:rPr>
              <a:t>Wilson, Allergy 2003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/>
          <p:nvPr/>
        </p:nvSpPr>
        <p:spPr>
          <a:xfrm>
            <a:off x="245160" y="839880"/>
            <a:ext cx="7105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SLIT: META ANALISI DI EFFICACIA NELLA RINITE IN ETA’ PEDIATRIC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ff0000"/>
                </a:solidFill>
                <a:latin typeface="Arial"/>
              </a:rPr>
              <a:t>Penagos M et al, Ann Allergy Asthma Immunol 2006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2"/>
          <a:stretch/>
        </p:blipFill>
        <p:spPr>
          <a:xfrm>
            <a:off x="66600" y="1531800"/>
            <a:ext cx="9070920" cy="274176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3"/>
          <a:stretch/>
        </p:blipFill>
        <p:spPr>
          <a:xfrm>
            <a:off x="179280" y="4402080"/>
            <a:ext cx="8785440" cy="2425680"/>
          </a:xfrm>
          <a:prstGeom prst="rect">
            <a:avLst/>
          </a:prstGeom>
          <a:ln w="0">
            <a:noFill/>
          </a:ln>
        </p:spPr>
      </p:pic>
      <p:sp>
        <p:nvSpPr>
          <p:cNvPr id="945" name=""/>
          <p:cNvSpPr/>
          <p:nvPr/>
        </p:nvSpPr>
        <p:spPr>
          <a:xfrm>
            <a:off x="7460640" y="1542960"/>
            <a:ext cx="113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SINTOMI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095240" y="439092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FARMACI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"/>
          <p:cNvSpPr/>
          <p:nvPr/>
        </p:nvSpPr>
        <p:spPr>
          <a:xfrm>
            <a:off x="457200" y="1222200"/>
            <a:ext cx="7969320" cy="11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3760" bIns="2376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Efficacia a lungo termine dell’Immunoterapia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i="1" lang="it-IT" sz="2800" spc="-1" strike="noStrike">
                <a:solidFill>
                  <a:srgbClr val="063de8"/>
                </a:solidFill>
                <a:latin typeface="Arial"/>
              </a:rPr>
              <a:t>Sottocutanea</a:t>
            </a: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(A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i="1" lang="it-IT" sz="2800" spc="-1" strike="noStrike">
                <a:solidFill>
                  <a:srgbClr val="063de8"/>
                </a:solidFill>
                <a:latin typeface="Arial"/>
              </a:rPr>
              <a:t>Sublinguale</a:t>
            </a:r>
            <a:r>
              <a:rPr b="1" i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it-IT" sz="2800" spc="-1" strike="noStrike">
                <a:solidFill>
                  <a:srgbClr val="ff0000"/>
                </a:solidFill>
                <a:latin typeface="Arial"/>
              </a:rPr>
              <a:t>( B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57200" y="4775040"/>
            <a:ext cx="8686800" cy="16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3760" bIns="23760" anchor="t">
            <a:spAutoFit/>
          </a:bodyPr>
          <a:p>
            <a:pPr marL="457200" indent="-457200">
              <a:lnSpc>
                <a:spcPct val="85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Prevenzione di nuove sensibilizzazioni 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Sottocutanea </a:t>
            </a: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(B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i="1" lang="it-IT" sz="2000" spc="-1" strike="noStrike">
                <a:solidFill>
                  <a:srgbClr val="063de8"/>
                </a:solidFill>
                <a:latin typeface="Arial"/>
              </a:rPr>
              <a:t>Des Roches 1997; Pajno 2001; Purello 2001; Eng 200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lang="it-IT" sz="2800" spc="-1" strike="noStrike">
                <a:solidFill>
                  <a:srgbClr val="063de8"/>
                </a:solidFill>
                <a:latin typeface="Arial"/>
              </a:rPr>
              <a:t>Sublinguale</a:t>
            </a:r>
            <a:r>
              <a:rPr b="1" lang="it-I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0066"/>
                </a:solidFill>
                <a:latin typeface="Arial"/>
              </a:rPr>
              <a:t>(B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457200" indent="-457200">
              <a:lnSpc>
                <a:spcPct val="85000"/>
              </a:lnSpc>
              <a:tabLst>
                <a:tab algn="l" pos="0"/>
                <a:tab algn="l" pos="692280"/>
                <a:tab algn="l" pos="1384200"/>
                <a:tab algn="l" pos="2076480"/>
                <a:tab algn="l" pos="2768760"/>
                <a:tab algn="l" pos="3460680"/>
                <a:tab algn="l" pos="4152960"/>
                <a:tab algn="l" pos="4844880"/>
                <a:tab algn="l" pos="5537160"/>
                <a:tab algn="l" pos="6229440"/>
                <a:tab algn="l" pos="6921360"/>
                <a:tab algn="l" pos="7613640"/>
                <a:tab algn="l" pos="8305920"/>
                <a:tab algn="l" pos="8997840"/>
                <a:tab algn="l" pos="9690120"/>
                <a:tab algn="l" pos="10382400"/>
              </a:tabLst>
            </a:pPr>
            <a:r>
              <a:rPr b="1" i="1" lang="it-IT" sz="2000" spc="-1" strike="noStrike">
                <a:solidFill>
                  <a:srgbClr val="063de8"/>
                </a:solidFill>
                <a:latin typeface="Arial"/>
              </a:rPr>
              <a:t>Marogna 2004; Marogna 2005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457200" y="2543040"/>
            <a:ext cx="769608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Effetto sulla reattività bronchiale aspecific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Sottocutanea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A)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63de8"/>
                </a:solidFill>
                <a:latin typeface="Arial"/>
              </a:rPr>
              <a:t>Grembiale 2000; Walker 2001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63de8"/>
                </a:solidFill>
                <a:latin typeface="Arial"/>
              </a:rPr>
              <a:t>Sublinguale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(A)</a:t>
            </a: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63de8"/>
                </a:solidFill>
                <a:latin typeface="Arial"/>
              </a:rPr>
              <a:t>Pajno 2004; Marogna 2004 ; Marogna 2005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0" name=""/>
          <p:cNvGrpSpPr/>
          <p:nvPr/>
        </p:nvGrpSpPr>
        <p:grpSpPr>
          <a:xfrm>
            <a:off x="324000" y="1979640"/>
            <a:ext cx="228600" cy="3198960"/>
            <a:chOff x="324000" y="1979640"/>
            <a:chExt cx="228600" cy="3198960"/>
          </a:xfrm>
        </p:grpSpPr>
        <p:sp>
          <p:nvSpPr>
            <p:cNvPr id="951" name=""/>
            <p:cNvSpPr/>
            <p:nvPr/>
          </p:nvSpPr>
          <p:spPr>
            <a:xfrm>
              <a:off x="324000" y="197964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4000" y="261864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4000" y="325944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4000" y="38988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4000" y="45378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24000" y="5178600"/>
              <a:ext cx="22860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957" name=""/>
          <p:cNvSpPr/>
          <p:nvPr/>
        </p:nvSpPr>
        <p:spPr>
          <a:xfrm>
            <a:off x="476280" y="5180040"/>
            <a:ext cx="3890880" cy="3492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552600" y="1979640"/>
            <a:ext cx="0" cy="3200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911160" y="2589120"/>
            <a:ext cx="609840" cy="2590920"/>
          </a:xfrm>
          <a:prstGeom prst="rect">
            <a:avLst/>
          </a:prstGeom>
          <a:solidFill>
            <a:srgbClr val="8be8f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521000" y="4417920"/>
            <a:ext cx="609480" cy="7621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2892600" y="3198960"/>
            <a:ext cx="609480" cy="1981080"/>
          </a:xfrm>
          <a:prstGeom prst="rect">
            <a:avLst/>
          </a:prstGeom>
          <a:solidFill>
            <a:srgbClr val="8be8f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3502080" y="3503520"/>
            <a:ext cx="609480" cy="1676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170360" y="525636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C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2742120" y="525636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89640" y="21319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599120" y="3960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19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2970720" y="2741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3580560" y="3046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2230560" y="1924200"/>
            <a:ext cx="228600" cy="228600"/>
          </a:xfrm>
          <a:prstGeom prst="rect">
            <a:avLst/>
          </a:prstGeom>
          <a:solidFill>
            <a:srgbClr val="8be8f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2230560" y="2365200"/>
            <a:ext cx="22860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424240" y="183204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63de8"/>
                </a:solidFill>
                <a:latin typeface="Arial"/>
              </a:rPr>
              <a:t>No asthm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2424600" y="2289240"/>
            <a:ext cx="107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63de8"/>
                </a:solidFill>
                <a:latin typeface="Arial"/>
              </a:rPr>
              <a:t>asthm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76560" y="5907240"/>
            <a:ext cx="28659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63de8"/>
                </a:solidFill>
                <a:latin typeface="Arial"/>
              </a:rPr>
              <a:t>Sottocutanea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63de8"/>
                </a:solidFill>
                <a:latin typeface="Arial"/>
              </a:rPr>
              <a:t>Moller et al, JACI 2002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974" name=""/>
          <p:cNvGrpSpPr/>
          <p:nvPr/>
        </p:nvGrpSpPr>
        <p:grpSpPr>
          <a:xfrm>
            <a:off x="4932360" y="1965240"/>
            <a:ext cx="200160" cy="3253320"/>
            <a:chOff x="4932360" y="1965240"/>
            <a:chExt cx="200160" cy="3253320"/>
          </a:xfrm>
        </p:grpSpPr>
        <p:sp>
          <p:nvSpPr>
            <p:cNvPr id="975" name=""/>
            <p:cNvSpPr/>
            <p:nvPr/>
          </p:nvSpPr>
          <p:spPr>
            <a:xfrm>
              <a:off x="4932360" y="1965240"/>
              <a:ext cx="200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932360" y="2616120"/>
              <a:ext cx="200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932360" y="3267000"/>
              <a:ext cx="200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932360" y="3916800"/>
              <a:ext cx="200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932360" y="4567680"/>
              <a:ext cx="200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932360" y="5218560"/>
              <a:ext cx="20016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981" name=""/>
          <p:cNvSpPr/>
          <p:nvPr/>
        </p:nvSpPr>
        <p:spPr>
          <a:xfrm flipV="1">
            <a:off x="5148360" y="1980720"/>
            <a:ext cx="0" cy="32403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561280" y="525636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SL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37800" y="525636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CONTRO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012000" y="4694400"/>
            <a:ext cx="649080" cy="57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364000" y="2317680"/>
            <a:ext cx="648000" cy="2952720"/>
          </a:xfrm>
          <a:prstGeom prst="rect">
            <a:avLst/>
          </a:prstGeom>
          <a:solidFill>
            <a:srgbClr val="8be8f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956720" y="3973680"/>
            <a:ext cx="649080" cy="12967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308720" y="3254400"/>
            <a:ext cx="648000" cy="2016000"/>
          </a:xfrm>
          <a:prstGeom prst="rect">
            <a:avLst/>
          </a:prstGeom>
          <a:solidFill>
            <a:srgbClr val="8be8f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5437800" y="27496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37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158160" y="4694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3800" y="34704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26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58880" y="433404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63de8"/>
                </a:solidFill>
                <a:latin typeface="Arial"/>
              </a:rPr>
              <a:t>18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804000" y="1862280"/>
            <a:ext cx="216000" cy="215640"/>
          </a:xfrm>
          <a:prstGeom prst="rect">
            <a:avLst/>
          </a:prstGeom>
          <a:solidFill>
            <a:srgbClr val="8be8f4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7167600" y="1812960"/>
            <a:ext cx="140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NO ASTHM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804000" y="2317680"/>
            <a:ext cx="216000" cy="216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7167240" y="2268360"/>
            <a:ext cx="104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ASTHMA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5148360" y="5270400"/>
            <a:ext cx="360036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002920" y="5907240"/>
            <a:ext cx="33627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63de8"/>
                </a:solidFill>
                <a:latin typeface="Arial"/>
              </a:rPr>
              <a:t>Sublingu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63de8"/>
                </a:solidFill>
                <a:latin typeface="Arial"/>
              </a:rPr>
              <a:t>Novembre et al, JACI 2004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1188360" y="831960"/>
            <a:ext cx="662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Arial"/>
              </a:rPr>
              <a:t>Prevenzione dello sviluppo di asma dopo 3 ann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257840" y="5516640"/>
            <a:ext cx="685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Linee guida italiane per la diagnosi e il trattamento dell’asma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Arial"/>
              </a:rPr>
              <a:t>GINA Ferrara, Marzo 2003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230760" y="990720"/>
            <a:ext cx="549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DICAZIONI ALL’IMMUNOTERAPI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56320" y="1557360"/>
            <a:ext cx="8599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L’ITS è indicata nei pazienti con asma allergica, da lieve a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moderata,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pecialmente quando l’asma è associata a rinit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Lo scopo è quello di ridurre i sintomi ed il consumo di farmaci,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Nonché di interferire con la storia naturale della malatti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L’immunoterapia ed il trattamento farmacologico non son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mutuamente esclusivi.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L’immunoterapia non deve essere somministrata a pazienti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con asma severa persistente o non adeguatamente 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controllata dalla terapi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"/>
          <p:cNvSpPr/>
          <p:nvPr/>
        </p:nvSpPr>
        <p:spPr>
          <a:xfrm>
            <a:off x="182520" y="1071720"/>
            <a:ext cx="8659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ANTICORPO ANTI-I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L’AB anti-IgE (Omalizumab) è clinicamente efficace nella rinite e nell’asma allergica (anche concomitanti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Le considerazioni di costo/efficacia lo indicano tuttavia al momento solo per il trattamento dell’asma (stadio 3 e 4 GINA) non controllata dalla massima terapia farmacologic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E’ stato proposto (studi sperimentali) il possibile utilizzo dell’anti-IgE in associazione all’immunoterapia, nell’allergia alimentare e nell’allergia a latice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971800" y="5562720"/>
            <a:ext cx="532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Bousquet, Chest 2004; Vignola, Allergy 2005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Holgate, CEA 2005; Casale, JACI 2006;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ff"/>
                </a:solidFill>
                <a:latin typeface="Arial"/>
              </a:rPr>
              <a:t>Leung, NEJM 2004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240120" y="846000"/>
            <a:ext cx="864792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Medicine complementari/alternative: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- Dal punto di vista scientifico non vi è alcuna prova definitiva o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ff"/>
                </a:solidFill>
                <a:latin typeface="Arial"/>
              </a:rPr>
              <a:t>convincente di efficacia per questi trattamenti in rinite e asma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- Non vi sono prove di efficacia dell’agopuntura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63de8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Alcuni risultati positivi nella rinite sono stati riportati con l’omeopatia,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ma esiste un numero equivalente di studi negativi e pertanto nessun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raccomandazione può essere fatta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- Alcuni studi riportano l’efficacia di certi rimedi fitoterapici, ma i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dati sono pochi ed esistono problemi di sicurezza, interazion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farmacologiche e standardizzazion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- Le tecniche di rilassamento e gli esercizi respiratori possono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essere di beneficio nell’asma, ma non raccomandabili com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63de8"/>
                </a:solidFill>
                <a:latin typeface="Arial"/>
              </a:rPr>
              <a:t>trattamento standard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708360" y="5956200"/>
            <a:ext cx="543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ff"/>
                </a:solidFill>
                <a:latin typeface="Arial"/>
              </a:rPr>
              <a:t>ARIA Update on Complementary Medicine. 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ff"/>
                </a:solidFill>
                <a:latin typeface="Arial"/>
              </a:rPr>
              <a:t>Passalacqua G et al. JACI 2006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"/>
          <p:cNvSpPr/>
          <p:nvPr/>
        </p:nvSpPr>
        <p:spPr>
          <a:xfrm>
            <a:off x="1936800" y="1954080"/>
            <a:ext cx="1922400" cy="30736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862440" y="1957320"/>
            <a:ext cx="1962000" cy="3070440"/>
          </a:xfrm>
          <a:prstGeom prst="rect">
            <a:avLst/>
          </a:prstGeom>
          <a:solidFill>
            <a:srgbClr val="fcca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5826240" y="1484280"/>
            <a:ext cx="1841400" cy="3543480"/>
          </a:xfrm>
          <a:prstGeom prst="rect">
            <a:avLst/>
          </a:prstGeom>
          <a:solidFill>
            <a:srgbClr val="ffa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10960" y="2630520"/>
            <a:ext cx="1735200" cy="239724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198360" y="4610160"/>
            <a:ext cx="7469280" cy="425520"/>
          </a:xfrm>
          <a:prstGeom prst="rect">
            <a:avLst/>
          </a:prstGeom>
          <a:solidFill>
            <a:srgbClr val="777777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951200" y="3979800"/>
            <a:ext cx="5716440" cy="39060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198360" y="5035680"/>
            <a:ext cx="7469280" cy="355320"/>
          </a:xfrm>
          <a:prstGeom prst="rect">
            <a:avLst/>
          </a:prstGeom>
          <a:solidFill>
            <a:srgbClr val="8be8f4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198360" y="5554800"/>
            <a:ext cx="7469280" cy="423720"/>
          </a:xfrm>
          <a:prstGeom prst="rect">
            <a:avLst/>
          </a:prstGeom>
          <a:solidFill>
            <a:srgbClr val="c0c0c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227160" y="2859120"/>
            <a:ext cx="17449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iev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rmittent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3994920" y="2200320"/>
            <a:ext cx="15512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Liev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istent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2077920" y="2200320"/>
            <a:ext cx="17449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derata-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rav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termittent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6009480" y="1728720"/>
            <a:ext cx="15512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Moderata-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grav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persistent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96440" y="5621400"/>
            <a:ext cx="444240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lontanamento di allergeni e irritanti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37120" y="5062680"/>
            <a:ext cx="4485240" cy="2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Decongestionante nasale (&lt;10 giorni)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290520" y="4032360"/>
            <a:ext cx="411804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Steroide nasale 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34960" y="4686480"/>
            <a:ext cx="543744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Antistaminico non sedativo orale o topico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195120" y="5983200"/>
            <a:ext cx="7471080" cy="453960"/>
          </a:xfrm>
          <a:prstGeom prst="rect">
            <a:avLst/>
          </a:prstGeom>
          <a:solidFill>
            <a:srgbClr val="68ff5c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09560" y="6051600"/>
            <a:ext cx="4937040" cy="32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mmunoterapia     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49560" y="1079640"/>
            <a:ext cx="57744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Trattamento della rinite allergica 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ARIA -Allergic Rhinitis and its Impact on Asthma 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195120" y="4361040"/>
            <a:ext cx="7454880" cy="252360"/>
          </a:xfrm>
          <a:prstGeom prst="rect">
            <a:avLst/>
          </a:prstGeom>
          <a:solidFill>
            <a:srgbClr val="ff7c80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63de8"/>
                </a:solidFill>
                <a:latin typeface="Arial"/>
              </a:rPr>
              <a:t>Cromon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1949400" y="3600360"/>
            <a:ext cx="5716800" cy="390600"/>
          </a:xfrm>
          <a:prstGeom prst="rect">
            <a:avLst/>
          </a:prstGeom>
          <a:solidFill>
            <a:srgbClr val="ff9933"/>
          </a:soli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2088000" y="3668760"/>
            <a:ext cx="4294800" cy="3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ntileucotrienico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(se coesiste asma)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/>
          </p:nvPr>
        </p:nvSpPr>
        <p:spPr>
          <a:xfrm>
            <a:off x="282240" y="1213920"/>
            <a:ext cx="8589960" cy="50338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 algn="ctr">
              <a:lnSpc>
                <a:spcPct val="100000"/>
              </a:lnSpc>
              <a:spcBef>
                <a:spcPts val="2313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3700" spc="-1" strike="noStrike">
                <a:solidFill>
                  <a:srgbClr val="ff0000"/>
                </a:solidFill>
                <a:latin typeface="Arial"/>
              </a:rPr>
              <a:t>Rinite lieve intermittente</a:t>
            </a:r>
            <a:endParaRPr b="0" lang="en-US" sz="37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100000"/>
              </a:lnSpc>
              <a:spcBef>
                <a:spcPts val="2313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37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37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100000"/>
              </a:lnSpc>
              <a:spcBef>
                <a:spcPts val="206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Opzioni (non necessariamente nell’ordine)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100000"/>
              </a:lnSpc>
              <a:spcBef>
                <a:spcPts val="206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- antistaminici nasali o orali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100000"/>
              </a:lnSpc>
              <a:spcBef>
                <a:spcPts val="206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- decongestionanti nasali (</a:t>
            </a: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max 10 giorni</a:t>
            </a: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100000"/>
              </a:lnSpc>
              <a:spcBef>
                <a:spcPts val="206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- (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decongestionanti orali:</a:t>
            </a: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 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solo adulti. In Italia disponibili solo  in associazione ad antistaminico</a:t>
            </a:r>
            <a:r>
              <a:rPr b="1" lang="it-IT" sz="3300" spc="-1" strike="noStrike">
                <a:solidFill>
                  <a:srgbClr val="063de8"/>
                </a:solidFill>
                <a:latin typeface="Arial"/>
              </a:rPr>
              <a:t>)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240" y="979560"/>
            <a:ext cx="7666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RINITE ALLERGICA: </a:t>
            </a: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Patologia della mucosa nasale indotta da un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infiammazione IgE mediata conseguente all’esposizione allergenica.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E’ caratterizzata clinicamente da: rinorrea, starnuti, prurito e 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ff"/>
                </a:solidFill>
                <a:latin typeface="Arial"/>
              </a:rPr>
              <a:t>ostruzione,  reversibili spontaneamente o in seguito a terapia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3600" y="907920"/>
            <a:ext cx="7667640" cy="12970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97880" y="2570040"/>
            <a:ext cx="37270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CLASSIFICAZION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ELLA RINI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lerg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intermittente/persistente)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nfettiv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batterica/virale/altri)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ccupaziona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allergica e non allergica)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a farmac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Ormona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diopat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t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NARES, atrofica, da cibi, da irritanti)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15800" y="2495520"/>
            <a:ext cx="3821400" cy="3986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76120" y="2498760"/>
            <a:ext cx="379872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DIAGNOSI DIFFERENZIAL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Condizioni che possono dar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sintomi di rinit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lipos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terazioni meccanich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deviazione setto, ipertrofia turbinati,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atresia coanale, corpi estranei)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Tumor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Benigni/maligni)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Granulomatos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(Wegener, sarcoidosi)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Discinesie ciliar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Rinoliquorre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746600" y="2494080"/>
            <a:ext cx="3875040" cy="3985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/>
          </p:nvPr>
        </p:nvSpPr>
        <p:spPr>
          <a:xfrm>
            <a:off x="135000" y="1098720"/>
            <a:ext cx="8874000" cy="55497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 algn="ctr">
              <a:lnSpc>
                <a:spcPct val="99000"/>
              </a:lnSpc>
              <a:spcBef>
                <a:spcPts val="12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Rinite intermittente moderata-grave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99000"/>
              </a:lnSpc>
              <a:spcBef>
                <a:spcPts val="12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Rinite persistente lieve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99000"/>
              </a:lnSpc>
              <a:spcBef>
                <a:spcPts val="12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Opzioni (non necessariamente nell’ordine):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antistaminici orali o nasali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associazione antistaminico orale+decongestionant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corticosteroidi nasali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antileucotrienici (</a:t>
            </a:r>
            <a:r>
              <a:rPr b="1" lang="it-IT" sz="1900" spc="-1" strike="noStrike">
                <a:solidFill>
                  <a:srgbClr val="063de8"/>
                </a:solidFill>
                <a:latin typeface="Arial"/>
              </a:rPr>
              <a:t>se coesiste asma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(cromoni)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Rivalutare il paziente dopo 2-4 settiman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271440" y="1111320"/>
            <a:ext cx="8601120" cy="486828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 algn="ctr">
              <a:lnSpc>
                <a:spcPct val="99000"/>
              </a:lnSpc>
              <a:spcBef>
                <a:spcPts val="1250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Rinite persistente moderata-grave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99000"/>
              </a:lnSpc>
              <a:spcBef>
                <a:spcPts val="1250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5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Approccio per gradi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steroide nasale come trattamento di prima linea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se persiste ostruzione importante: aggiungere un breve ciclo di steroide sistemico o di decongestionant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Rivalutare dopo 2-4 settiman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Se persistono ancora sintomi aggiungere: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antistaminico orale (± decongestionanti)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950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antileucotrienico (</a:t>
            </a:r>
            <a:r>
              <a:rPr b="1" lang="it-IT" sz="1900" spc="-1" strike="noStrike">
                <a:solidFill>
                  <a:srgbClr val="063de8"/>
                </a:solidFill>
                <a:latin typeface="Arial"/>
              </a:rPr>
              <a:t>se coesiste asma)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9000"/>
              </a:lnSpc>
              <a:spcBef>
                <a:spcPts val="1049"/>
              </a:spcBef>
              <a:buNone/>
              <a:tabLst>
                <a:tab algn="l" pos="0"/>
                <a:tab algn="l" pos="77148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  <a:tab algn="l" pos="3772080"/>
              </a:tabLst>
            </a:pP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100" spc="-1" strike="noStrike">
                <a:solidFill>
                  <a:srgbClr val="063de8"/>
                </a:solidFill>
                <a:latin typeface="Arial"/>
              </a:rPr>
              <a:t>- ipratropio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/>
          </p:nvPr>
        </p:nvSpPr>
        <p:spPr>
          <a:xfrm>
            <a:off x="333000" y="981000"/>
            <a:ext cx="7937640" cy="3976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 fontScale="99000"/>
          </a:bodyPr>
          <a:p>
            <a:pPr marL="388080" indent="0" algn="ctr">
              <a:lnSpc>
                <a:spcPct val="99000"/>
              </a:lnSpc>
              <a:spcBef>
                <a:spcPts val="206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3300" spc="-1" strike="noStrike">
                <a:solidFill>
                  <a:srgbClr val="ff0000"/>
                </a:solidFill>
                <a:latin typeface="Arial"/>
              </a:rPr>
              <a:t>Congiuntivite associata alla rinite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99000"/>
              </a:lnSpc>
              <a:spcBef>
                <a:spcPts val="2064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33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>
              <a:lnSpc>
                <a:spcPct val="99000"/>
              </a:lnSpc>
              <a:spcBef>
                <a:spcPts val="1811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Opzioni (non necessariamente nell’ordine)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>
              <a:lnSpc>
                <a:spcPct val="99000"/>
              </a:lnSpc>
              <a:spcBef>
                <a:spcPts val="1811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- antistaminici orali o oculari 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>
              <a:lnSpc>
                <a:spcPct val="99000"/>
              </a:lnSpc>
              <a:spcBef>
                <a:spcPts val="1811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- cromoni oculari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>
              <a:lnSpc>
                <a:spcPct val="99000"/>
              </a:lnSpc>
              <a:spcBef>
                <a:spcPts val="1811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- lavaggi con soluzione fisiologica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52280" y="5029200"/>
            <a:ext cx="8085240" cy="14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63de8"/>
                </a:solidFill>
                <a:latin typeface="Arial"/>
              </a:rPr>
              <a:t>I corticosteroidi topici oculari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9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63de8"/>
                </a:solidFill>
                <a:latin typeface="Arial"/>
              </a:rPr>
              <a:t>utilizzati per periodi protratti, possono avere importanti effetti collaterali e devono essere utilizzati solo dopo attenta valutazione medica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7777440" cy="47570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 fontScale="99000"/>
          </a:bodyPr>
          <a:p>
            <a:pPr marL="388080" indent="0" algn="ctr">
              <a:lnSpc>
                <a:spcPct val="87000"/>
              </a:lnSpc>
              <a:spcBef>
                <a:spcPts val="41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41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41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1- Perche’ ARIA ?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2 - Nuova classificazione della rinit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3 - Importanza dell’infiammazione nas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63de8"/>
                </a:solidFill>
                <a:latin typeface="Arial"/>
              </a:rPr>
              <a:t>4 - Trattamento basato sull’evidenza speriment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063de8"/>
                </a:solidFill>
                <a:latin typeface="Arial"/>
              </a:rPr>
              <a:t>5 - Impatto della rinite sull’ asma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"/>
          <p:cNvSpPr/>
          <p:nvPr/>
        </p:nvSpPr>
        <p:spPr>
          <a:xfrm>
            <a:off x="347040" y="1103400"/>
            <a:ext cx="83217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La rinite e l’asma sono aspetti clinici differenti di un unico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disordine immuno-mediato dell’apparato respiratorio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- Dati epidemiologic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- Immunologi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- Aspetti funzionali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La rinite rappresenta un fattore certo di rischio per asma,  anch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ndipendentemente dall’atopia. La forma allergica è quella associata al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rischio maggiore. La sensibilizzazione ad allergeni perenni comporta un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rischio maggiore di asma rispetto a quella ad allergeni stagionali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La rinite allergica si associa frequentemente ad iperreattività bronchial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specific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99400" y="5373720"/>
            <a:ext cx="4243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Leynaert B et al, JACI 1999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Peroni D et  al, Clin Exp Allergy 2003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Guerra S t al, JACI 2002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ff"/>
                </a:solidFill>
                <a:latin typeface="Arial"/>
              </a:rPr>
              <a:t>Ciprandi G, Int Arch Allergy Immunol 2004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"/>
          <p:cNvSpPr/>
          <p:nvPr/>
        </p:nvSpPr>
        <p:spPr>
          <a:xfrm>
            <a:off x="380880" y="1676520"/>
            <a:ext cx="7620120" cy="4952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7" name="PlaceHolder 1"/>
          <p:cNvSpPr>
            <a:spLocks noGrp="1"/>
          </p:cNvSpPr>
          <p:nvPr>
            <p:ph/>
          </p:nvPr>
        </p:nvSpPr>
        <p:spPr>
          <a:xfrm>
            <a:off x="576360" y="914040"/>
            <a:ext cx="7192800" cy="11599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indent="0" algn="ctr">
              <a:lnSpc>
                <a:spcPct val="89000"/>
              </a:lnSpc>
              <a:spcBef>
                <a:spcPts val="1375"/>
              </a:spcBef>
              <a:buNone/>
              <a:tabLst>
                <a:tab algn="l" pos="0"/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500" spc="-1" strike="noStrike">
                <a:solidFill>
                  <a:srgbClr val="0000ff"/>
                </a:solidFill>
                <a:latin typeface="Arial"/>
              </a:rPr>
              <a:t>Rinite perenne: fattore indipendente di rischio per l’asma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lnSpc>
                <a:spcPct val="89000"/>
              </a:lnSpc>
              <a:spcBef>
                <a:spcPts val="1151"/>
              </a:spcBef>
              <a:buNone/>
              <a:tabLst>
                <a:tab algn="l" pos="0"/>
                <a:tab algn="l" pos="157320"/>
                <a:tab algn="l" pos="31428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</a:tabLst>
            </a:pPr>
            <a:r>
              <a:rPr b="1" lang="it-IT" sz="2100" spc="-1" strike="noStrike">
                <a:solidFill>
                  <a:srgbClr val="8be8f4"/>
                </a:solidFill>
                <a:latin typeface="Arial"/>
              </a:rPr>
              <a:t>Leynaert et al, J Allergy Clin Immunol 1999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1376280" y="2319480"/>
            <a:ext cx="5023800" cy="4296240"/>
            <a:chOff x="1376280" y="2319480"/>
            <a:chExt cx="5023800" cy="4296240"/>
          </a:xfrm>
        </p:grpSpPr>
        <p:grpSp>
          <p:nvGrpSpPr>
            <p:cNvPr id="1039" name=""/>
            <p:cNvGrpSpPr/>
            <p:nvPr/>
          </p:nvGrpSpPr>
          <p:grpSpPr>
            <a:xfrm>
              <a:off x="1376280" y="2319480"/>
              <a:ext cx="5023800" cy="4296240"/>
              <a:chOff x="1376280" y="2319480"/>
              <a:chExt cx="5023800" cy="4296240"/>
            </a:xfrm>
          </p:grpSpPr>
          <p:sp>
            <p:nvSpPr>
              <p:cNvPr id="1040" name=""/>
              <p:cNvSpPr/>
              <p:nvPr/>
            </p:nvSpPr>
            <p:spPr>
              <a:xfrm>
                <a:off x="2150640" y="2509920"/>
                <a:ext cx="4214520" cy="36846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2162160" y="2522520"/>
                <a:ext cx="4203000" cy="3672000"/>
              </a:xfrm>
              <a:prstGeom prst="rect">
                <a:avLst/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2093040" y="6219720"/>
                <a:ext cx="51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2093040" y="5478480"/>
                <a:ext cx="51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2093040" y="4735440"/>
                <a:ext cx="51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2093040" y="3994200"/>
                <a:ext cx="51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2093040" y="3263760"/>
                <a:ext cx="51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2093040" y="2522520"/>
                <a:ext cx="518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2117160" y="606420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2117160" y="592128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2117160" y="577692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2117160" y="562140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2117160" y="532116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2117160" y="517824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2117160" y="503568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2117160" y="487836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2117160" y="459252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2117160" y="443700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2117160" y="429264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2117160" y="414972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2117160" y="385128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2117160" y="370692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2117160" y="355104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2117160" y="340848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2117160" y="310824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2117160" y="296532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2117160" y="282240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2117160" y="2665440"/>
                <a:ext cx="280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V="1">
                <a:off x="2150640" y="2522520"/>
                <a:ext cx="0" cy="36972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216600" y="6219720"/>
                <a:ext cx="0" cy="5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333400" y="6219720"/>
                <a:ext cx="0" cy="586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2150640" y="6219720"/>
                <a:ext cx="423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2150640" y="6219720"/>
                <a:ext cx="423144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2370960" y="5908680"/>
                <a:ext cx="822600" cy="285840"/>
              </a:xfrm>
              <a:prstGeom prst="rect">
                <a:avLst/>
              </a:prstGeom>
              <a:solidFill>
                <a:srgbClr val="51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2382480" y="5921280"/>
                <a:ext cx="811080" cy="273240"/>
              </a:xfrm>
              <a:prstGeom prst="rect">
                <a:avLst/>
              </a:prstGeom>
              <a:noFill/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3205440" y="3251160"/>
                <a:ext cx="832320" cy="294336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3216600" y="3263760"/>
                <a:ext cx="822600" cy="2930760"/>
              </a:xfrm>
              <a:prstGeom prst="rect">
                <a:avLst/>
              </a:prstGeom>
              <a:noFill/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4478400" y="6103800"/>
                <a:ext cx="832680" cy="90720"/>
              </a:xfrm>
              <a:prstGeom prst="rect">
                <a:avLst/>
              </a:prstGeom>
              <a:solidFill>
                <a:srgbClr val="51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4489560" y="6116760"/>
                <a:ext cx="822600" cy="77760"/>
              </a:xfrm>
              <a:prstGeom prst="rect">
                <a:avLst/>
              </a:prstGeom>
              <a:noFill/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322240" y="4722840"/>
                <a:ext cx="822600" cy="14716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333400" y="4735440"/>
                <a:ext cx="811440" cy="1459080"/>
              </a:xfrm>
              <a:prstGeom prst="rect">
                <a:avLst/>
              </a:prstGeom>
              <a:noFill/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866600" y="6016680"/>
                <a:ext cx="3157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66600" y="5273640"/>
                <a:ext cx="3157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5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1749960" y="4532400"/>
                <a:ext cx="4496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1749960" y="3789360"/>
                <a:ext cx="4496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15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1749960" y="3060720"/>
                <a:ext cx="4496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20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1749960" y="2319480"/>
                <a:ext cx="44964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1900" spc="-1" strike="noStrike">
                    <a:solidFill>
                      <a:srgbClr val="ffffff"/>
                    </a:solidFill>
                    <a:latin typeface="Arial"/>
                  </a:rPr>
                  <a:t>25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 rot="16200000">
                <a:off x="216000" y="4087080"/>
                <a:ext cx="26989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i="1" lang="it-IT" sz="1900" spc="-1" strike="noStrike">
                    <a:solidFill>
                      <a:srgbClr val="ffffff"/>
                    </a:solidFill>
                    <a:latin typeface="Arial"/>
                  </a:rPr>
                  <a:t>% subjects with asthma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2851200" y="6237360"/>
                <a:ext cx="82440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it-IT" sz="1900" spc="-1" strike="noStrike">
                    <a:solidFill>
                      <a:srgbClr val="ffffff"/>
                    </a:solidFill>
                    <a:latin typeface="Arial"/>
                  </a:rPr>
                  <a:t>atopic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4762080" y="6237360"/>
                <a:ext cx="1307520" cy="37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it-IT" sz="1900" spc="-1" strike="noStrike">
                    <a:solidFill>
                      <a:srgbClr val="ffffff"/>
                    </a:solidFill>
                    <a:latin typeface="Arial"/>
                  </a:rPr>
                  <a:t>non-atopic</a:t>
                </a:r>
                <a:endParaRPr b="0" lang="en-US" sz="19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4952520" y="3421080"/>
                <a:ext cx="104040" cy="11736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4963680" y="3433680"/>
                <a:ext cx="92880" cy="104760"/>
              </a:xfrm>
              <a:prstGeom prst="rect">
                <a:avLst/>
              </a:prstGeom>
              <a:noFill/>
              <a:ln w="255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126040" y="3265560"/>
                <a:ext cx="95724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Arial"/>
                  </a:rPr>
                  <a:t>rinite </a:t>
                </a:r>
                <a:endParaRPr b="0" lang="en-US" sz="25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4952520" y="2940120"/>
                <a:ext cx="104040" cy="117360"/>
              </a:xfrm>
              <a:prstGeom prst="rect">
                <a:avLst/>
              </a:prstGeom>
              <a:solidFill>
                <a:srgbClr val="51d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4963680" y="2952720"/>
                <a:ext cx="92880" cy="104760"/>
              </a:xfrm>
              <a:prstGeom prst="rect">
                <a:avLst/>
              </a:prstGeom>
              <a:noFill/>
              <a:ln w="25560">
                <a:solidFill>
                  <a:srgbClr val="51d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126040" y="2784600"/>
                <a:ext cx="1274040" cy="46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en-US" sz="2500" spc="-1" strike="noStrike">
                    <a:solidFill>
                      <a:srgbClr val="ffffff"/>
                    </a:solidFill>
                    <a:latin typeface="Arial"/>
                  </a:rPr>
                  <a:t>controlli</a:t>
                </a:r>
                <a:endParaRPr b="0" lang="en-US" sz="25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2177640" y="2529000"/>
              <a:ext cx="4169520" cy="3679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09400" y="3246480"/>
              <a:ext cx="839880" cy="2973240"/>
            </a:xfrm>
            <a:prstGeom prst="rect">
              <a:avLst/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5309640" y="4735440"/>
              <a:ext cx="839880" cy="1474920"/>
            </a:xfrm>
            <a:prstGeom prst="rect">
              <a:avLst/>
            </a:prstGeom>
            <a:gradFill rotWithShape="0">
              <a:gsLst>
                <a:gs pos="0">
                  <a:srgbClr val="000075"/>
                </a:gs>
                <a:gs pos="50000">
                  <a:srgbClr val="0000ff"/>
                </a:gs>
                <a:gs pos="100000">
                  <a:srgbClr val="0000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470120" y="6051600"/>
              <a:ext cx="839520" cy="16020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366640" y="5911920"/>
              <a:ext cx="839880" cy="301680"/>
            </a:xfrm>
            <a:prstGeom prst="rect">
              <a:avLst/>
            </a:prstGeom>
            <a:gradFill rotWithShape="0">
              <a:gsLst>
                <a:gs pos="0">
                  <a:srgbClr val="005e46"/>
                </a:gs>
                <a:gs pos="50000">
                  <a:srgbClr val="00cc99"/>
                </a:gs>
                <a:gs pos="100000">
                  <a:srgbClr val="005e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4948560" y="2735280"/>
              <a:ext cx="259560" cy="29376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4959720" y="3192480"/>
              <a:ext cx="259560" cy="29376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5191200" y="2682720"/>
              <a:ext cx="1058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ontrolli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5192640" y="3127320"/>
              <a:ext cx="732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init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105" name=""/>
          <p:cNvSpPr/>
          <p:nvPr/>
        </p:nvSpPr>
        <p:spPr>
          <a:xfrm>
            <a:off x="685800" y="1752480"/>
            <a:ext cx="701028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76320" y="1320840"/>
            <a:ext cx="8918280" cy="5254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8120" y="1326960"/>
            <a:ext cx="360" cy="8676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6724800" y="2522520"/>
            <a:ext cx="214776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658880" y="1892160"/>
            <a:ext cx="4944960" cy="3886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658880" y="1892160"/>
            <a:ext cx="4956120" cy="389916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592280" y="5778360"/>
            <a:ext cx="55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592280" y="4813200"/>
            <a:ext cx="55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592280" y="3835440"/>
            <a:ext cx="5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592280" y="2870280"/>
            <a:ext cx="5544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592280" y="1892160"/>
            <a:ext cx="55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1614600" y="5295960"/>
            <a:ext cx="331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1614600" y="4317840"/>
            <a:ext cx="331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14600" y="3352680"/>
            <a:ext cx="331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1614600" y="2387520"/>
            <a:ext cx="331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flipV="1">
            <a:off x="1658880" y="1891800"/>
            <a:ext cx="1800" cy="3886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55680" y="5791320"/>
            <a:ext cx="180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3149640" y="579132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132440" y="579132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5124600" y="579132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118200" y="579132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1658880" y="5778360"/>
            <a:ext cx="49449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1658880" y="5778360"/>
            <a:ext cx="49449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2292480" y="4216320"/>
            <a:ext cx="280800" cy="15620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3284640" y="5092560"/>
            <a:ext cx="282600" cy="685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267080" y="5384880"/>
            <a:ext cx="293760" cy="393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5261040" y="5524560"/>
            <a:ext cx="293760" cy="25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6254640" y="5156280"/>
            <a:ext cx="281160" cy="622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1449360" y="566424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331640" y="46990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331640" y="3720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31640" y="275580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1331640" y="17906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 rot="16200000">
            <a:off x="-363600" y="3443040"/>
            <a:ext cx="2948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children with symptoms (%)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820160" y="5892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llergic</a:t>
            </a:r>
            <a:endParaRPr b="0" lang="en-US" sz="1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2812320" y="5892840"/>
            <a:ext cx="671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allergic</a:t>
            </a:r>
            <a:endParaRPr b="0" lang="en-US" sz="1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3664800" y="5892840"/>
            <a:ext cx="108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on-allergic</a:t>
            </a:r>
            <a:endParaRPr b="0" lang="en-US" sz="1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5073120" y="5892840"/>
            <a:ext cx="45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one</a:t>
            </a:r>
            <a:endParaRPr b="0" lang="en-US" sz="1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6120360" y="5892840"/>
            <a:ext cx="275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ND</a:t>
            </a:r>
            <a:endParaRPr b="0" lang="en-US" sz="1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829560" y="3022560"/>
            <a:ext cx="112680" cy="1396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081560" y="2984400"/>
            <a:ext cx="791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825480" y="5880240"/>
            <a:ext cx="8053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900" spc="-1" strike="noStrike">
                <a:solidFill>
                  <a:srgbClr val="ffffff"/>
                </a:solidFill>
                <a:latin typeface="Arial"/>
              </a:rPr>
              <a:t>rhinitis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527040" y="6221520"/>
            <a:ext cx="6815160" cy="3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27000" bIns="27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fr-FR" sz="1900" spc="-1" strike="noStrike">
                <a:solidFill>
                  <a:srgbClr val="ffffff"/>
                </a:solidFill>
                <a:latin typeface="Arial"/>
              </a:rPr>
              <a:t>skin test     pos.         neg.          ND         ND         neg.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744120" y="653760"/>
            <a:ext cx="8078760" cy="6771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27000" bIns="27000" anchor="t">
            <a:normAutofit/>
          </a:bodyPr>
          <a:p>
            <a:pPr indent="0" algn="ctr">
              <a:lnSpc>
                <a:spcPct val="91000"/>
              </a:lnSpc>
              <a:spcBef>
                <a:spcPts val="1089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1900" spc="-1" strike="noStrike">
                <a:solidFill>
                  <a:srgbClr val="ff0000"/>
                </a:solidFill>
                <a:latin typeface="Arial"/>
              </a:rPr>
              <a:t>Rinite allergica precoce come fattore di rischio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lnSpc>
                <a:spcPct val="91000"/>
              </a:lnSpc>
              <a:spcBef>
                <a:spcPts val="975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1700" spc="-1" strike="noStrike">
                <a:solidFill>
                  <a:srgbClr val="ff0000"/>
                </a:solidFill>
                <a:latin typeface="Arial"/>
              </a:rPr>
              <a:t>Wright et al, Pediatrics 1994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021040" y="2095560"/>
            <a:ext cx="271440" cy="3682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990880" y="2616120"/>
            <a:ext cx="293760" cy="31622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984480" y="3098880"/>
            <a:ext cx="282600" cy="26794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4978440" y="3251160"/>
            <a:ext cx="282600" cy="25272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5972040" y="2666880"/>
            <a:ext cx="282600" cy="31114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6829560" y="2629080"/>
            <a:ext cx="112680" cy="139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7082640" y="2590920"/>
            <a:ext cx="1622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ugh, wheeze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"/>
          <p:cNvSpPr/>
          <p:nvPr/>
        </p:nvSpPr>
        <p:spPr>
          <a:xfrm>
            <a:off x="152280" y="1676520"/>
            <a:ext cx="8839440" cy="5181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8120" y="1336320"/>
            <a:ext cx="360" cy="8676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87120" y="887400"/>
            <a:ext cx="8218440" cy="714960"/>
          </a:xfrm>
          <a:prstGeom prst="rect">
            <a:avLst/>
          </a:prstGeom>
          <a:noFill/>
          <a:ln w="0">
            <a:noFill/>
          </a:ln>
        </p:spPr>
        <p:txBody>
          <a:bodyPr lIns="66600" rIns="66600" tIns="27000" bIns="27000" anchor="t">
            <a:normAutofit/>
          </a:bodyPr>
          <a:p>
            <a:pPr indent="0">
              <a:lnSpc>
                <a:spcPct val="88000"/>
              </a:lnSpc>
              <a:spcBef>
                <a:spcPts val="561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2500" spc="-1" strike="noStrike">
                <a:solidFill>
                  <a:srgbClr val="ff0000"/>
                </a:solidFill>
                <a:latin typeface="Arial"/>
              </a:rPr>
              <a:t>Iperreattività bronchiale nei pazienti ECHRS 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indent="0">
              <a:lnSpc>
                <a:spcPct val="88000"/>
              </a:lnSpc>
              <a:spcBef>
                <a:spcPts val="451"/>
              </a:spcBef>
              <a:buNone/>
              <a:tabLst>
                <a:tab algn="l" pos="0"/>
                <a:tab algn="l" pos="15876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</a:tabLst>
            </a:pPr>
            <a:r>
              <a:rPr b="1" lang="fr-FR" sz="2000" spc="-1" strike="noStrike">
                <a:solidFill>
                  <a:srgbClr val="ff0000"/>
                </a:solidFill>
                <a:latin typeface="Arial"/>
              </a:rPr>
              <a:t>Leynaert, Bousquet, Neukirch, Am J Respir Crit Care Med 1997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1541520" y="1927080"/>
            <a:ext cx="4978440" cy="3214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541520" y="1927080"/>
            <a:ext cx="4989600" cy="322920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482840" y="5141880"/>
            <a:ext cx="47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482840" y="4332240"/>
            <a:ext cx="47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1482840" y="3533760"/>
            <a:ext cx="47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1482840" y="2724120"/>
            <a:ext cx="47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1482840" y="1927080"/>
            <a:ext cx="47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1506600" y="4743360"/>
            <a:ext cx="237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1506600" y="3946680"/>
            <a:ext cx="2376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506600" y="3135240"/>
            <a:ext cx="237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1506600" y="2325600"/>
            <a:ext cx="2376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1530360" y="1927080"/>
            <a:ext cx="0" cy="32292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2033640" y="515628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3029040" y="5156280"/>
            <a:ext cx="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4024440" y="515628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5032440" y="5156280"/>
            <a:ext cx="144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014880" y="5156280"/>
            <a:ext cx="1800" cy="507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>
            <a:off x="1541520" y="5141880"/>
            <a:ext cx="4978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1541520" y="5141880"/>
            <a:ext cx="497844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1701720" y="4538520"/>
            <a:ext cx="663480" cy="6033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697120" y="4410000"/>
            <a:ext cx="663480" cy="731880"/>
          </a:xfrm>
          <a:prstGeom prst="rect">
            <a:avLst/>
          </a:prstGeom>
          <a:solidFill>
            <a:srgbClr val="fcfeb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703680" y="4743360"/>
            <a:ext cx="652320" cy="398520"/>
          </a:xfrm>
          <a:prstGeom prst="rect">
            <a:avLst/>
          </a:prstGeom>
          <a:solidFill>
            <a:srgbClr val="eaec5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4687920" y="3817800"/>
            <a:ext cx="676080" cy="1324080"/>
          </a:xfrm>
          <a:prstGeom prst="rect">
            <a:avLst/>
          </a:prstGeom>
          <a:solidFill>
            <a:srgbClr val="faf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5683320" y="2325600"/>
            <a:ext cx="674640" cy="2816280"/>
          </a:xfrm>
          <a:prstGeom prst="rect">
            <a:avLst/>
          </a:prstGeom>
          <a:solidFill>
            <a:srgbClr val="ff84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1287360" y="5035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1184040" y="42242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1184040" y="34275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1184040" y="26161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1184040" y="180648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rot="16200000">
            <a:off x="386280" y="3487680"/>
            <a:ext cx="11649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US" sz="1900" spc="-1" strike="noStrike">
                <a:solidFill>
                  <a:srgbClr val="ffffff"/>
                </a:solidFill>
                <a:latin typeface="Arial"/>
              </a:rPr>
              <a:t>% subjects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1714320" y="5227560"/>
            <a:ext cx="844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controls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190" name=""/>
          <p:cNvGrpSpPr/>
          <p:nvPr/>
        </p:nvGrpSpPr>
        <p:grpSpPr>
          <a:xfrm>
            <a:off x="2622600" y="5227560"/>
            <a:ext cx="965520" cy="572400"/>
            <a:chOff x="2622600" y="5227560"/>
            <a:chExt cx="965520" cy="572400"/>
          </a:xfrm>
        </p:grpSpPr>
        <p:sp>
          <p:nvSpPr>
            <p:cNvPr id="1191" name=""/>
            <p:cNvSpPr/>
            <p:nvPr/>
          </p:nvSpPr>
          <p:spPr>
            <a:xfrm>
              <a:off x="2622600" y="5227560"/>
              <a:ext cx="965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easonal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2736720" y="5510160"/>
              <a:ext cx="697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rhinitis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93" name=""/>
          <p:cNvGrpSpPr/>
          <p:nvPr/>
        </p:nvGrpSpPr>
        <p:grpSpPr>
          <a:xfrm>
            <a:off x="3609720" y="5227560"/>
            <a:ext cx="992880" cy="572400"/>
            <a:chOff x="3609720" y="5227560"/>
            <a:chExt cx="992880" cy="572400"/>
          </a:xfrm>
        </p:grpSpPr>
        <p:sp>
          <p:nvSpPr>
            <p:cNvPr id="1194" name=""/>
            <p:cNvSpPr/>
            <p:nvPr/>
          </p:nvSpPr>
          <p:spPr>
            <a:xfrm>
              <a:off x="3609720" y="5227560"/>
              <a:ext cx="992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perennial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736800" y="5510160"/>
              <a:ext cx="697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rhinitis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196" name=""/>
          <p:cNvGrpSpPr/>
          <p:nvPr/>
        </p:nvGrpSpPr>
        <p:grpSpPr>
          <a:xfrm>
            <a:off x="4527720" y="5227560"/>
            <a:ext cx="1200240" cy="843840"/>
            <a:chOff x="4527720" y="5227560"/>
            <a:chExt cx="1200240" cy="843840"/>
          </a:xfrm>
        </p:grpSpPr>
        <p:sp>
          <p:nvSpPr>
            <p:cNvPr id="1197" name=""/>
            <p:cNvSpPr/>
            <p:nvPr/>
          </p:nvSpPr>
          <p:spPr>
            <a:xfrm>
              <a:off x="4627080" y="5227560"/>
              <a:ext cx="9655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seasonal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527720" y="5510160"/>
              <a:ext cx="1200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+ perennial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741560" y="5781600"/>
              <a:ext cx="6973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Arial"/>
                </a:rPr>
                <a:t>rhinitis</a:t>
              </a:r>
              <a:endParaRPr b="0" lang="en-US" sz="19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200" name=""/>
          <p:cNvSpPr/>
          <p:nvPr/>
        </p:nvSpPr>
        <p:spPr>
          <a:xfrm>
            <a:off x="5721120" y="5227560"/>
            <a:ext cx="7916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asthma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6692760" y="2583000"/>
            <a:ext cx="2170080" cy="1914120"/>
          </a:xfrm>
          <a:prstGeom prst="rect">
            <a:avLst/>
          </a:prstGeom>
          <a:solidFill>
            <a:srgbClr val="063d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6600" rIns="66600" tIns="27000" bIns="27000" anchor="t">
            <a:spAutoFit/>
          </a:bodyPr>
          <a:p>
            <a:pPr marL="158760" indent="-158760">
              <a:lnSpc>
                <a:spcPct val="86000"/>
              </a:lnSpc>
              <a:spcBef>
                <a:spcPts val="964"/>
              </a:spcBef>
              <a:tabLst>
                <a:tab algn="l" pos="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  <a:tab algn="l" pos="33336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- Paris + MPL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 marL="158760" indent="-158760">
              <a:lnSpc>
                <a:spcPct val="86000"/>
              </a:lnSpc>
              <a:spcBef>
                <a:spcPts val="964"/>
              </a:spcBef>
              <a:tabLst>
                <a:tab algn="l" pos="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  <a:tab algn="l" pos="33336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- 821 adults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 marL="158760" indent="-158760">
              <a:lnSpc>
                <a:spcPct val="86000"/>
              </a:lnSpc>
              <a:spcBef>
                <a:spcPts val="964"/>
              </a:spcBef>
              <a:tabLst>
                <a:tab algn="l" pos="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  <a:tab algn="l" pos="33336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- 20-44 yr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 marL="158760" indent="-158760">
              <a:lnSpc>
                <a:spcPct val="86000"/>
              </a:lnSpc>
              <a:spcBef>
                <a:spcPts val="964"/>
              </a:spcBef>
              <a:tabLst>
                <a:tab algn="l" pos="0"/>
                <a:tab algn="l" pos="317520"/>
                <a:tab algn="l" pos="476280"/>
                <a:tab algn="l" pos="635040"/>
                <a:tab algn="l" pos="793800"/>
                <a:tab algn="l" pos="952560"/>
                <a:tab algn="l" pos="1111320"/>
                <a:tab algn="l" pos="1270080"/>
                <a:tab algn="l" pos="1428840"/>
                <a:tab algn="l" pos="1587600"/>
                <a:tab algn="l" pos="1746360"/>
                <a:tab algn="l" pos="1905120"/>
                <a:tab algn="l" pos="2063880"/>
                <a:tab algn="l" pos="2222640"/>
                <a:tab algn="l" pos="2381400"/>
                <a:tab algn="l" pos="2540160"/>
                <a:tab algn="l" pos="2698920"/>
                <a:tab algn="l" pos="2857680"/>
                <a:tab algn="l" pos="3016080"/>
                <a:tab algn="l" pos="3174840"/>
                <a:tab algn="l" pos="333360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- PC20 methacholine ≤4mg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2651760" y="6153120"/>
            <a:ext cx="18619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27000" bIns="270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non-asthmatic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without wheeze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2039760" y="5662440"/>
            <a:ext cx="0" cy="777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064120" y="6137280"/>
            <a:ext cx="0" cy="303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2046240" y="64468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H="1">
            <a:off x="4430520" y="6446880"/>
            <a:ext cx="6332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1943280" y="1174320"/>
            <a:ext cx="5270400" cy="530280"/>
          </a:xfrm>
          <a:prstGeom prst="rect">
            <a:avLst/>
          </a:prstGeom>
          <a:noFill/>
          <a:ln w="0">
            <a:noFill/>
          </a:ln>
        </p:spPr>
        <p:txBody>
          <a:bodyPr lIns="98640" rIns="98640" tIns="49320" bIns="49320" anchor="b" anchorCtr="1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GB" sz="2900" spc="-1" strike="noStrike">
                <a:solidFill>
                  <a:srgbClr val="ff0000"/>
                </a:solidFill>
                <a:latin typeface="Arial"/>
              </a:rPr>
              <a:t>Eosinofili (EG2+) nelle biopsie </a:t>
            </a:r>
            <a:br>
              <a:rPr sz="2900"/>
            </a:br>
            <a:r>
              <a:rPr b="0" lang="en-GB" sz="2900" spc="-1" strike="noStrike">
                <a:solidFill>
                  <a:srgbClr val="ff0000"/>
                </a:solidFill>
                <a:latin typeface="Arial"/>
              </a:rPr>
              <a:t>di asmatici</a:t>
            </a:r>
            <a:endParaRPr b="1" lang="en-US" sz="29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167120" y="5710320"/>
            <a:ext cx="211140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GB" sz="1700" spc="-1" strike="noStrike">
                <a:solidFill>
                  <a:srgbClr val="ff9933"/>
                </a:solidFill>
                <a:latin typeface="Arial"/>
              </a:rPr>
              <a:t>Bousquet J </a:t>
            </a:r>
            <a:r>
              <a:rPr b="1" i="1" lang="en-GB" sz="1700" spc="-1" strike="noStrike">
                <a:solidFill>
                  <a:srgbClr val="ff9933"/>
                </a:solidFill>
                <a:latin typeface="Arial"/>
              </a:rPr>
              <a:t>et al</a:t>
            </a:r>
            <a:r>
              <a:rPr b="1" lang="en-GB" sz="1700" spc="-1" strike="noStrike">
                <a:solidFill>
                  <a:srgbClr val="ff9933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GB" sz="1700" spc="-1" strike="noStrike">
                <a:solidFill>
                  <a:srgbClr val="ff9933"/>
                </a:solidFill>
                <a:latin typeface="Arial"/>
              </a:rPr>
              <a:t>N Engl J Med 1990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09" name="" descr="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247680" y="2825640"/>
            <a:ext cx="4238640" cy="2779920"/>
          </a:xfrm>
          <a:prstGeom prst="rect">
            <a:avLst/>
          </a:prstGeom>
          <a:ln w="0">
            <a:noFill/>
          </a:ln>
        </p:spPr>
      </p:pic>
      <p:sp>
        <p:nvSpPr>
          <p:cNvPr id="1210" name=""/>
          <p:cNvSpPr/>
          <p:nvPr/>
        </p:nvSpPr>
        <p:spPr>
          <a:xfrm>
            <a:off x="811800" y="2073240"/>
            <a:ext cx="366264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3000" spc="-1" strike="noStrike">
                <a:solidFill>
                  <a:srgbClr val="0000ff"/>
                </a:solidFill>
                <a:latin typeface="Arial"/>
              </a:rPr>
              <a:t>Mucosa bronchiale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11" name="" descr=""/>
          <p:cNvPicPr/>
          <p:nvPr/>
        </p:nvPicPr>
        <p:blipFill>
          <a:blip r:embed="rId3"/>
          <a:stretch/>
        </p:blipFill>
        <p:spPr>
          <a:xfrm>
            <a:off x="4737240" y="2816280"/>
            <a:ext cx="4209840" cy="2789280"/>
          </a:xfrm>
          <a:prstGeom prst="rect">
            <a:avLst/>
          </a:prstGeom>
          <a:ln w="0">
            <a:noFill/>
          </a:ln>
        </p:spPr>
      </p:pic>
      <p:sp>
        <p:nvSpPr>
          <p:cNvPr id="1212" name=""/>
          <p:cNvSpPr/>
          <p:nvPr/>
        </p:nvSpPr>
        <p:spPr>
          <a:xfrm>
            <a:off x="5062680" y="5719680"/>
            <a:ext cx="3479760" cy="6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GB" sz="1700" spc="-1" strike="noStrike">
                <a:solidFill>
                  <a:srgbClr val="ff9933"/>
                </a:solidFill>
                <a:latin typeface="Arial"/>
              </a:rPr>
              <a:t>Chanez P, Vignola M </a:t>
            </a:r>
            <a:r>
              <a:rPr b="1" i="1" lang="en-GB" sz="1700" spc="-1" strike="noStrike">
                <a:solidFill>
                  <a:srgbClr val="ff9933"/>
                </a:solidFill>
                <a:latin typeface="Arial"/>
              </a:rPr>
              <a:t>et al</a:t>
            </a:r>
            <a:r>
              <a:rPr b="1" lang="en-GB" sz="1700" spc="-1" strike="noStrike">
                <a:solidFill>
                  <a:srgbClr val="ff9933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en-GB" sz="1700" spc="-1" strike="noStrike">
                <a:solidFill>
                  <a:srgbClr val="ff9933"/>
                </a:solidFill>
                <a:latin typeface="Arial"/>
              </a:rPr>
              <a:t>Am J Respir Crit Care Med 1999</a:t>
            </a:r>
            <a:endParaRPr b="0" lang="en-US" sz="17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5614920" y="2073240"/>
            <a:ext cx="292212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5840" rIns="105840" tIns="52920" bIns="529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1" lang="fr-FR" sz="3000" spc="-1" strike="noStrike">
                <a:solidFill>
                  <a:srgbClr val="0000ff"/>
                </a:solidFill>
                <a:latin typeface="Arial"/>
              </a:rPr>
              <a:t>Mucosa nasale</a:t>
            </a:r>
            <a:endParaRPr b="0" lang="en-US" sz="3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4" name="" descr=""/>
          <p:cNvPicPr/>
          <p:nvPr/>
        </p:nvPicPr>
        <p:blipFill>
          <a:blip r:embed="rId2"/>
          <a:stretch/>
        </p:blipFill>
        <p:spPr>
          <a:xfrm>
            <a:off x="4716360" y="3357720"/>
            <a:ext cx="3854520" cy="272880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1215" name="" descr=""/>
          <p:cNvPicPr/>
          <p:nvPr/>
        </p:nvPicPr>
        <p:blipFill>
          <a:blip r:embed="rId3"/>
          <a:stretch/>
        </p:blipFill>
        <p:spPr>
          <a:xfrm>
            <a:off x="395280" y="896760"/>
            <a:ext cx="4068720" cy="2892600"/>
          </a:xfrm>
          <a:prstGeom prst="rect">
            <a:avLst/>
          </a:prstGeom>
          <a:ln w="28440">
            <a:solidFill>
              <a:srgbClr val="fda254"/>
            </a:solidFill>
            <a:miter/>
          </a:ln>
        </p:spPr>
      </p:pic>
      <p:sp>
        <p:nvSpPr>
          <p:cNvPr id="1216" name=""/>
          <p:cNvSpPr/>
          <p:nvPr/>
        </p:nvSpPr>
        <p:spPr>
          <a:xfrm>
            <a:off x="4648320" y="6172200"/>
            <a:ext cx="4038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rimi et al.J Appl Physiol 2001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2916360" y="907920"/>
            <a:ext cx="1538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ASMATIC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7020360" y="3357720"/>
            <a:ext cx="1297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63de8"/>
                </a:solidFill>
                <a:latin typeface="Arial"/>
              </a:rPr>
              <a:t>RINITIC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4722480" y="1736640"/>
            <a:ext cx="3815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Biopsie bronchiali dop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test di provocazione specifico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in soggetti allergici con asma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o con sola rinite 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469800" y="4940280"/>
            <a:ext cx="378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dentica infiammazion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bronchiale, indipendent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ai sintomi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 flipV="1">
            <a:off x="2050920" y="3357720"/>
            <a:ext cx="865440" cy="1584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 flipV="1">
            <a:off x="2843280" y="4365720"/>
            <a:ext cx="2233440" cy="576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7777080" cy="475704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 fontScale="99000"/>
          </a:bodyPr>
          <a:p>
            <a:pPr marL="388080" indent="0" algn="ctr">
              <a:lnSpc>
                <a:spcPct val="87000"/>
              </a:lnSpc>
              <a:spcBef>
                <a:spcPts val="41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4100" spc="-1" strike="noStrike">
                <a:solidFill>
                  <a:srgbClr val="ff0000"/>
                </a:solidFill>
                <a:latin typeface="Arial"/>
              </a:rPr>
              <a:t>ARIA</a:t>
            </a:r>
            <a:endParaRPr b="0" lang="en-US" sz="41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900" spc="-1" strike="noStrike">
                <a:solidFill>
                  <a:srgbClr val="ff0000"/>
                </a:solidFill>
                <a:latin typeface="Arial"/>
              </a:rPr>
              <a:t>1- Perche’ ARIA ?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Arial"/>
              </a:rPr>
              <a:t>2 - Nuova classificazione della rinit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Arial"/>
              </a:rPr>
              <a:t>3 - Importanza dell’infiammazione nas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Arial"/>
              </a:rPr>
              <a:t>4 - Trattamento basato sull’evidenza sperimentale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  <a:p>
            <a:pPr marL="388080" indent="0" algn="ctr">
              <a:lnSpc>
                <a:spcPct val="87000"/>
              </a:lnSpc>
              <a:spcBef>
                <a:spcPts val="2925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0" lang="it-IT" sz="2900" spc="-1" strike="noStrike">
                <a:solidFill>
                  <a:srgbClr val="0000ff"/>
                </a:solidFill>
                <a:latin typeface="Arial"/>
              </a:rPr>
              <a:t>5 - Impatto della rinite sull’ asma</a:t>
            </a:r>
            <a:endParaRPr b="0" lang="en-US" sz="29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/>
          <p:nvPr/>
        </p:nvSpPr>
        <p:spPr>
          <a:xfrm>
            <a:off x="228600" y="1523880"/>
            <a:ext cx="8686800" cy="533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4880" y="958680"/>
            <a:ext cx="3240" cy="8676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1" lang="en-US" sz="3700" spc="-1" strike="noStrike">
              <a:solidFill>
                <a:srgbClr val="8be8f4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150480" y="874800"/>
            <a:ext cx="69843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6600" rIns="66600" tIns="27000" bIns="270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fr-FR" sz="2100" spc="-1" strike="noStrike">
                <a:solidFill>
                  <a:srgbClr val="ff0000"/>
                </a:solidFill>
                <a:latin typeface="Arial"/>
              </a:rPr>
              <a:t>Infiammazione nasale dopo challenge endobronchiale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92000"/>
                <a:tab algn="l" pos="1584360"/>
                <a:tab algn="l" pos="2376360"/>
                <a:tab algn="l" pos="3168720"/>
                <a:tab algn="l" pos="3960720"/>
                <a:tab algn="l" pos="4753080"/>
                <a:tab algn="l" pos="5545080"/>
                <a:tab algn="l" pos="6337440"/>
                <a:tab algn="l" pos="7129440"/>
                <a:tab algn="l" pos="7921800"/>
                <a:tab algn="l" pos="8713800"/>
                <a:tab algn="l" pos="9505800"/>
                <a:tab algn="l" pos="10298160"/>
              </a:tabLst>
            </a:pPr>
            <a:r>
              <a:rPr b="1" lang="fr-FR" sz="1900" spc="-1" strike="noStrike">
                <a:solidFill>
                  <a:srgbClr val="ff0000"/>
                </a:solidFill>
                <a:latin typeface="Arial"/>
              </a:rPr>
              <a:t>Braunstahl et al, Am J Respir Crit Care Med  200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5867280" y="2379600"/>
            <a:ext cx="2449800" cy="89856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2567160" y="1832040"/>
            <a:ext cx="3203280" cy="413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577960" y="1844640"/>
            <a:ext cx="3194280" cy="41194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2519280" y="5989680"/>
            <a:ext cx="3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2519280" y="5291280"/>
            <a:ext cx="3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1" name=""/>
          <p:cNvSpPr/>
          <p:nvPr/>
        </p:nvSpPr>
        <p:spPr>
          <a:xfrm>
            <a:off x="2519280" y="4606920"/>
            <a:ext cx="3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2" name=""/>
          <p:cNvSpPr/>
          <p:nvPr/>
        </p:nvSpPr>
        <p:spPr>
          <a:xfrm>
            <a:off x="2519280" y="3909960"/>
            <a:ext cx="3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2519280" y="3225960"/>
            <a:ext cx="3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2519280" y="2529000"/>
            <a:ext cx="3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2519280" y="1844640"/>
            <a:ext cx="316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2543040" y="5646600"/>
            <a:ext cx="7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2543040" y="4950000"/>
            <a:ext cx="7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2543040" y="4265640"/>
            <a:ext cx="7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2543040" y="3568680"/>
            <a:ext cx="7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2543040" y="2884320"/>
            <a:ext cx="7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543040" y="2187720"/>
            <a:ext cx="792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 flipV="1">
            <a:off x="2567160" y="1844640"/>
            <a:ext cx="0" cy="41450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386160" y="6002280"/>
            <a:ext cx="0" cy="33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987800" y="6002280"/>
            <a:ext cx="0" cy="3348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577960" y="5989680"/>
            <a:ext cx="31989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3362400" y="5450040"/>
            <a:ext cx="0" cy="1713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3303720" y="5450040"/>
            <a:ext cx="1346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4964040" y="2003040"/>
            <a:ext cx="0" cy="16448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905360" y="2003400"/>
            <a:ext cx="13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3373560" y="5713560"/>
            <a:ext cx="0" cy="2556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4975200" y="5607000"/>
            <a:ext cx="0" cy="3222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4905360" y="5935680"/>
            <a:ext cx="1350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384720" y="5541480"/>
            <a:ext cx="1585800" cy="10476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314880" y="5568840"/>
            <a:ext cx="106200" cy="119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3327480" y="5581800"/>
            <a:ext cx="93600" cy="1062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4916520" y="5462640"/>
            <a:ext cx="106200" cy="11916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4927680" y="5475240"/>
            <a:ext cx="95040" cy="1080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3384720" y="3713040"/>
            <a:ext cx="1596960" cy="2019600"/>
          </a:xfrm>
          <a:prstGeom prst="line">
            <a:avLst/>
          </a:prstGeom>
          <a:ln w="5076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314880" y="5634000"/>
            <a:ext cx="106200" cy="119160"/>
          </a:xfrm>
          <a:prstGeom prst="ellipse">
            <a:avLst/>
          </a:prstGeom>
          <a:solidFill>
            <a:srgbClr val="fcf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3327480" y="5646600"/>
            <a:ext cx="93600" cy="106560"/>
          </a:xfrm>
          <a:prstGeom prst="ellipse">
            <a:avLst/>
          </a:prstGeom>
          <a:noFill/>
          <a:ln w="2556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4916520" y="3660840"/>
            <a:ext cx="106200" cy="119160"/>
          </a:xfrm>
          <a:prstGeom prst="ellipse">
            <a:avLst/>
          </a:prstGeom>
          <a:solidFill>
            <a:srgbClr val="fcf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27680" y="3673440"/>
            <a:ext cx="95040" cy="106560"/>
          </a:xfrm>
          <a:prstGeom prst="ellipse">
            <a:avLst/>
          </a:prstGeom>
          <a:noFill/>
          <a:ln w="2556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281320" y="5786280"/>
            <a:ext cx="3157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2163600" y="508788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163600" y="440532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4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2163600" y="370692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2163600" y="3022560"/>
            <a:ext cx="449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048040" y="2325600"/>
            <a:ext cx="583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2048040" y="1641600"/>
            <a:ext cx="5839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12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rot="16200000">
            <a:off x="249480" y="3461760"/>
            <a:ext cx="32418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900" spc="-1" strike="noStrike">
                <a:solidFill>
                  <a:srgbClr val="ffffff"/>
                </a:solidFill>
                <a:latin typeface="Arial"/>
              </a:rPr>
              <a:t>BMK+ cells in lamina propria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3169440" y="6008760"/>
            <a:ext cx="46332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T0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514400" y="6008760"/>
            <a:ext cx="10868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T +24 hr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317040" y="6338880"/>
            <a:ext cx="2286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900" spc="-1" strike="noStrike">
                <a:solidFill>
                  <a:srgbClr val="ffffff"/>
                </a:solidFill>
                <a:latin typeface="Arial"/>
              </a:rPr>
              <a:t>time after challenge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5934240" y="3108240"/>
            <a:ext cx="415800" cy="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6086520" y="3029040"/>
            <a:ext cx="106200" cy="118800"/>
          </a:xfrm>
          <a:prstGeom prst="ellipse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6097680" y="3041640"/>
            <a:ext cx="95040" cy="108000"/>
          </a:xfrm>
          <a:prstGeom prst="ellipse">
            <a:avLst/>
          </a:prstGeom>
          <a:noFill/>
          <a:ln w="255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6426360" y="2862360"/>
            <a:ext cx="129240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controls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34240" y="2620800"/>
            <a:ext cx="415800" cy="0"/>
          </a:xfrm>
          <a:prstGeom prst="line">
            <a:avLst/>
          </a:prstGeom>
          <a:ln w="5076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6086520" y="2543040"/>
            <a:ext cx="106200" cy="119160"/>
          </a:xfrm>
          <a:prstGeom prst="ellipse">
            <a:avLst/>
          </a:prstGeom>
          <a:solidFill>
            <a:srgbClr val="fcf3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097680" y="2556000"/>
            <a:ext cx="95040" cy="106200"/>
          </a:xfrm>
          <a:prstGeom prst="ellipse">
            <a:avLst/>
          </a:prstGeom>
          <a:noFill/>
          <a:ln w="25560">
            <a:solidFill>
              <a:srgbClr val="fcf3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6426360" y="2376360"/>
            <a:ext cx="182268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2500" spc="-1" strike="noStrike">
                <a:solidFill>
                  <a:srgbClr val="ffffff"/>
                </a:solidFill>
                <a:latin typeface="Arial"/>
              </a:rPr>
              <a:t>AR patients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/>
          </p:nvPr>
        </p:nvSpPr>
        <p:spPr>
          <a:xfrm>
            <a:off x="334800" y="3909600"/>
            <a:ext cx="82296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8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l corretto trattamento della rinite riduce le visite extra, ricoveri in pronto soccorso ed i costi di gestione dell’asma. Tale effetto è altamente significativo con gli steroidi nasali e, in misura minore, con gli antistaminici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3302640" y="5572080"/>
            <a:ext cx="4434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Arial"/>
              </a:rPr>
              <a:t>Crystal-Peters, JACI 2002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Arial"/>
              </a:rPr>
              <a:t>Fuhlbrigge, Curr Opin Allergy Immunol 2003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374760" y="1166760"/>
            <a:ext cx="8229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 la rinite è  trattata in maniera efficace, specialmente p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quanto riguarda l’ostruzione nasale, si possono osservar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ffetti clinici positivi anche sull’asma concomitant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2665440" y="2619360"/>
            <a:ext cx="5144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Arial"/>
              </a:rPr>
              <a:t>Baena-Cagnani et al, Int Arch Allergy Immunol 2003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ff"/>
                </a:solidFill>
                <a:latin typeface="Arial"/>
              </a:rPr>
              <a:t>Nelson HS, JACI 2003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"/>
          <p:cNvSpPr/>
          <p:nvPr/>
        </p:nvSpPr>
        <p:spPr>
          <a:xfrm>
            <a:off x="95400" y="662040"/>
            <a:ext cx="874368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8be8f4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ff0000"/>
                </a:solidFill>
                <a:latin typeface="Arial"/>
              </a:rPr>
              <a:t>Rinite  e asma professionale</a:t>
            </a:r>
            <a:r>
              <a:rPr b="1" lang="en-US" sz="3300" spc="-1" strike="noStrike">
                <a:solidFill>
                  <a:srgbClr val="8be8f4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99880" y="1650960"/>
            <a:ext cx="80074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9000"/>
          </a:bodyPr>
          <a:p>
            <a:pPr marL="236520" indent="-236520" algn="just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La rinite </a:t>
            </a:r>
            <a:r>
              <a:rPr b="1" lang="it-IT" sz="2400" spc="-1" strike="noStrike" u="sng">
                <a:solidFill>
                  <a:srgbClr val="0000ff"/>
                </a:solidFill>
                <a:uFillTx/>
                <a:latin typeface="Arial"/>
              </a:rPr>
              <a:t>è associata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  ad asma professionale (AP) in una elevata percentuale di casi (76-92%)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lo 1997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 algn="just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 algn="just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La presenza di sintomi come prurito e rinorrea è predittiva della presenza di AP da agenti ad alto peso molecolare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(Vandenplas 2005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 algn="just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 algn="just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I sintomi di rinite precedono l’insorgenza dei sintomi di asma in circa la metà dei casi di AP indotta da agenti ad alto peso molecolare (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alo 1997,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Cortona 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2001,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Storaas 2005</a:t>
            </a:r>
            <a:r>
              <a:rPr b="1" lang="en-GB" sz="24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 algn="just">
              <a:lnSpc>
                <a:spcPct val="80000"/>
              </a:lnSpc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236520" indent="-236520" algn="just">
              <a:lnSpc>
                <a:spcPct val="80000"/>
              </a:lnSpc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ff"/>
                </a:solidFill>
                <a:latin typeface="Arial"/>
              </a:rPr>
              <a:t>La rinite è considerata un marker precoce di AP utile durante la sorveglianza sanitaria dei lavoratori esposti. (</a:t>
            </a:r>
            <a:r>
              <a:rPr b="1" lang="it-IT" sz="2000" spc="-1" strike="noStrike">
                <a:solidFill>
                  <a:srgbClr val="0000ff"/>
                </a:solidFill>
                <a:latin typeface="Arial"/>
              </a:rPr>
              <a:t>Saia 2004)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/>
          </p:nvPr>
        </p:nvSpPr>
        <p:spPr>
          <a:xfrm>
            <a:off x="4572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Negli atleti di elite la prevalenza di rinite è elevata e quella di asma è superiore alla sua prevalenza nella popolazione general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Rinite e asma sono influenzate dal tipo di sport praticato (corsa, nuoto, ecc.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63de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3de8"/>
                </a:solidFill>
                <a:latin typeface="Arial"/>
              </a:rPr>
              <a:t>Alcuni farmaci antiallergici e/o antiasmatici possono incidere sulla performance e sono regolati da specifiche norme del World Anti-Doping Agency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525960" y="1092240"/>
            <a:ext cx="424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SMA, RINITE E SPOR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36160" cy="57513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588960" indent="0">
              <a:lnSpc>
                <a:spcPct val="93000"/>
              </a:lnSpc>
              <a:spcBef>
                <a:spcPts val="1701"/>
              </a:spcBef>
              <a:buNone/>
              <a:tabLst>
                <a:tab algn="l" pos="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1" lang="en-US" sz="3700" spc="-1" strike="noStrike">
                <a:solidFill>
                  <a:srgbClr val="ff0000"/>
                </a:solidFill>
                <a:latin typeface="Arial"/>
              </a:rPr>
              <a:t>Raccomandazioni</a:t>
            </a:r>
            <a:endParaRPr b="0" lang="en-US" sz="3700" spc="-1" strike="noStrike">
              <a:solidFill>
                <a:srgbClr val="0000ff"/>
              </a:solidFill>
              <a:latin typeface="Times New Roman"/>
            </a:endParaRPr>
          </a:p>
          <a:p>
            <a:pPr marL="588960" indent="0" algn="ctr">
              <a:lnSpc>
                <a:spcPct val="93000"/>
              </a:lnSpc>
              <a:spcBef>
                <a:spcPts val="1701"/>
              </a:spcBef>
              <a:buNone/>
              <a:tabLst>
                <a:tab algn="l" pos="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endParaRPr b="0" lang="en-US" sz="3700" spc="-1" strike="noStrike">
              <a:solidFill>
                <a:srgbClr val="0000ff"/>
              </a:solidFill>
              <a:latin typeface="Times New Roman"/>
            </a:endParaRPr>
          </a:p>
          <a:p>
            <a:pPr marL="588960" indent="0">
              <a:lnSpc>
                <a:spcPct val="93000"/>
              </a:lnSpc>
              <a:spcBef>
                <a:spcPts val="1287"/>
              </a:spcBef>
              <a:buNone/>
              <a:tabLst>
                <a:tab algn="l" pos="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1- </a:t>
            </a: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I pazienti con rinite persistente dovrebbero essere sempre studiati per eventuale asma concomita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88960" indent="0">
              <a:lnSpc>
                <a:spcPct val="93000"/>
              </a:lnSpc>
              <a:spcBef>
                <a:spcPts val="1287"/>
              </a:spcBef>
              <a:buNone/>
              <a:tabLst>
                <a:tab algn="l" pos="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2- </a:t>
            </a: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Nei pazienti con asma dovrebbe essere sempre valutata la eventuale rinite concomitant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588960" indent="0">
              <a:lnSpc>
                <a:spcPct val="93000"/>
              </a:lnSpc>
              <a:spcBef>
                <a:spcPts val="1287"/>
              </a:spcBef>
              <a:buNone/>
              <a:tabLst>
                <a:tab algn="l" pos="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  <a:tab algn="l" pos="361476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3- </a:t>
            </a: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63de8"/>
                </a:solidFill>
                <a:latin typeface="Arial"/>
              </a:rPr>
              <a:t>La strategia ideale dovrebbe associare il trattamento delle vie aeree superiori e inferiori cercando di ottimizzare efficacia, sicurezza e costi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04920" y="1143000"/>
            <a:ext cx="8399520" cy="533376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 algn="ctr">
              <a:lnSpc>
                <a:spcPct val="99000"/>
              </a:lnSpc>
              <a:spcBef>
                <a:spcPts val="12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15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Le ragioni per creare linee guida per la 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99000"/>
              </a:lnSpc>
              <a:spcBef>
                <a:spcPts val="12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</a:rPr>
              <a:t>gestione della rinite allergica </a:t>
            </a: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 algn="ctr">
              <a:lnSpc>
                <a:spcPct val="99000"/>
              </a:lnSpc>
              <a:spcBef>
                <a:spcPts val="1250"/>
              </a:spcBef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endParaRPr b="0" lang="en-US" sz="25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99000"/>
              </a:lnSpc>
              <a:spcBef>
                <a:spcPts val="1049"/>
              </a:spcBef>
              <a:buClr>
                <a:srgbClr val="fda254"/>
              </a:buClr>
              <a:buSzPct val="50000"/>
              <a:buFont typeface="Webdings" charset="2"/>
              <a:buChar char=""/>
              <a:tabLst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La rinite allergica è un problema sanitario globale che colpisce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dal 5 al 50 % della popolazione 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99000"/>
              </a:lnSpc>
              <a:spcBef>
                <a:spcPts val="1049"/>
              </a:spcBef>
              <a:buClr>
                <a:srgbClr val="fda254"/>
              </a:buClr>
              <a:buSzPct val="50000"/>
              <a:buFont typeface="Webdings" charset="2"/>
              <a:buChar char=""/>
              <a:tabLst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La sua prevalenza è in aumento.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99000"/>
              </a:lnSpc>
              <a:spcBef>
                <a:spcPts val="1049"/>
              </a:spcBef>
              <a:buClr>
                <a:srgbClr val="fda254"/>
              </a:buClr>
              <a:buSzPct val="50000"/>
              <a:buFont typeface="Webdings" charset="2"/>
              <a:buChar char=""/>
              <a:tabLst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Pur non essendo una malattia grave, la rinite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nfluisce sulla vita sociale ed altera le prestazioni scolastiche e lavorative .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99000"/>
              </a:lnSpc>
              <a:spcBef>
                <a:spcPts val="1049"/>
              </a:spcBef>
              <a:buClr>
                <a:srgbClr val="fda254"/>
              </a:buClr>
              <a:buSzPct val="50000"/>
              <a:buFont typeface="Webdings" charset="2"/>
              <a:buChar char=""/>
              <a:tabLst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I costi socio sanitari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sono rilevanti. 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-392040">
              <a:lnSpc>
                <a:spcPct val="99000"/>
              </a:lnSpc>
              <a:spcBef>
                <a:spcPts val="1049"/>
              </a:spcBef>
              <a:buClr>
                <a:srgbClr val="fda254"/>
              </a:buClr>
              <a:buSzPct val="50000"/>
              <a:buFont typeface="Webdings" charset="2"/>
              <a:buChar char=""/>
              <a:tabLst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en-US" sz="2100" spc="-1" strike="noStrike">
                <a:solidFill>
                  <a:srgbClr val="0000ff"/>
                </a:solidFill>
                <a:latin typeface="Arial"/>
              </a:rPr>
              <a:t>E’ stato dimostrato che la divulgazione e l’applicazione delle linee guida sono in grado di migliorare la gestione dei pazienti.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641840" y="880920"/>
            <a:ext cx="2376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781520" y="1038240"/>
            <a:ext cx="22320" cy="4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51920" y="914040"/>
            <a:ext cx="8534520" cy="600120"/>
          </a:xfrm>
          <a:prstGeom prst="rect">
            <a:avLst/>
          </a:prstGeom>
          <a:noFill/>
          <a:ln w="0">
            <a:noFill/>
          </a:ln>
        </p:spPr>
        <p:txBody>
          <a:bodyPr lIns="65160" rIns="65160" tIns="25560" bIns="25560" anchor="t">
            <a:normAutofit/>
          </a:bodyPr>
          <a:p>
            <a:pPr marL="392040" indent="0">
              <a:lnSpc>
                <a:spcPct val="90000"/>
              </a:lnSpc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2100" spc="-1" strike="noStrike">
                <a:solidFill>
                  <a:srgbClr val="ff0000"/>
                </a:solidFill>
                <a:latin typeface="Arial"/>
              </a:rPr>
              <a:t>Prevalenza della rinite tra i 13 e i 14 anni  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  <a:p>
            <a:pPr marL="392040" indent="0">
              <a:lnSpc>
                <a:spcPct val="90000"/>
              </a:lnSpc>
              <a:buNone/>
              <a:tabLst>
                <a:tab algn="l" pos="0"/>
                <a:tab algn="l" pos="471600"/>
                <a:tab algn="l" pos="628560"/>
                <a:tab algn="l" pos="785880"/>
                <a:tab algn="l" pos="942840"/>
                <a:tab algn="l" pos="1100160"/>
                <a:tab algn="l" pos="1257480"/>
                <a:tab algn="l" pos="1414440"/>
                <a:tab algn="l" pos="1571760"/>
                <a:tab algn="l" pos="1728720"/>
                <a:tab algn="l" pos="1886040"/>
                <a:tab algn="l" pos="2043000"/>
                <a:tab algn="l" pos="2200320"/>
                <a:tab algn="l" pos="2357280"/>
                <a:tab algn="l" pos="2514600"/>
                <a:tab algn="l" pos="2671920"/>
                <a:tab algn="l" pos="2828880"/>
                <a:tab algn="l" pos="2986200"/>
                <a:tab algn="l" pos="3143160"/>
                <a:tab algn="l" pos="3300480"/>
                <a:tab algn="l" pos="3457440"/>
              </a:tabLst>
            </a:pPr>
            <a:r>
              <a:rPr b="1" lang="it-IT" sz="1900" spc="-1" strike="noStrike">
                <a:solidFill>
                  <a:srgbClr val="ff0000"/>
                </a:solidFill>
                <a:latin typeface="Arial"/>
              </a:rPr>
              <a:t>Studio ISAAC Strachan et al, Pediatr Allergy Immunology 1997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80000" y="1916280"/>
            <a:ext cx="61920" cy="236520"/>
          </a:xfrm>
          <a:prstGeom prst="rect">
            <a:avLst/>
          </a:prstGeom>
          <a:solidFill>
            <a:srgbClr val="ffffff"/>
          </a:solidFill>
          <a:ln w="127080">
            <a:solidFill>
              <a:srgbClr val="68ff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>
            <a:lum contrast="-12000"/>
          </a:blip>
          <a:stretch/>
        </p:blipFill>
        <p:spPr>
          <a:xfrm>
            <a:off x="1177920" y="1774800"/>
            <a:ext cx="6788160" cy="4626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119480" y="3189240"/>
            <a:ext cx="61920" cy="716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57560" y="3189240"/>
            <a:ext cx="61920" cy="716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741920" y="2279520"/>
            <a:ext cx="61920" cy="716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35480" y="1790640"/>
            <a:ext cx="0" cy="223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35480" y="4030560"/>
            <a:ext cx="180324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5238720" y="1790640"/>
            <a:ext cx="0" cy="2239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81520" y="3411360"/>
            <a:ext cx="41040" cy="478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32280" y="388944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603680" y="3875040"/>
            <a:ext cx="255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98840" y="367992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97280" y="2616120"/>
            <a:ext cx="237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35360" y="226692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921120" y="226692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89200" y="326088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76400" y="3260880"/>
            <a:ext cx="637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492800" y="4449600"/>
            <a:ext cx="601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622680" y="501012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187800" y="5361120"/>
            <a:ext cx="60120" cy="680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87800" y="5710320"/>
            <a:ext cx="601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5880" y="571032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861160" y="430992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42320" y="5780160"/>
            <a:ext cx="61920" cy="6984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7840" y="555624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607080" y="3959280"/>
            <a:ext cx="61920" cy="7128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27280" y="424008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014560" y="3271680"/>
            <a:ext cx="1047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378160" y="297972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0240" y="5638680"/>
            <a:ext cx="61920" cy="716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76400" y="4938840"/>
            <a:ext cx="63720" cy="7128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84600" y="4870440"/>
            <a:ext cx="61920" cy="6840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35480" y="5361120"/>
            <a:ext cx="63360" cy="680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73560" y="542916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247920" y="571032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73560" y="5570640"/>
            <a:ext cx="61920" cy="680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12200" y="607068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74120" y="6000840"/>
            <a:ext cx="410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736040" y="6000840"/>
            <a:ext cx="428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797960" y="593100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97960" y="5791320"/>
            <a:ext cx="428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797960" y="5861160"/>
            <a:ext cx="428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104240" y="585000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289640" y="571032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296040" y="4168800"/>
            <a:ext cx="60480" cy="71280"/>
          </a:xfrm>
          <a:prstGeom prst="ellipse">
            <a:avLst/>
          </a:prstGeom>
          <a:solidFill>
            <a:srgbClr val="f4b34d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356520" y="4449600"/>
            <a:ext cx="63360" cy="69840"/>
          </a:xfrm>
          <a:prstGeom prst="ellipse">
            <a:avLst/>
          </a:prstGeom>
          <a:solidFill>
            <a:srgbClr val="f4b34d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56520" y="4519440"/>
            <a:ext cx="63360" cy="716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19880" y="4591080"/>
            <a:ext cx="63360" cy="68400"/>
          </a:xfrm>
          <a:prstGeom prst="ellipse">
            <a:avLst/>
          </a:prstGeom>
          <a:solidFill>
            <a:srgbClr val="f4b34d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4760" y="430992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792840" y="3959280"/>
            <a:ext cx="61920" cy="7128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42320" y="3679920"/>
            <a:ext cx="619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854760" y="3540240"/>
            <a:ext cx="619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916680" y="3610080"/>
            <a:ext cx="637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419880" y="465948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51280" y="5721480"/>
            <a:ext cx="42840" cy="47520"/>
          </a:xfrm>
          <a:prstGeom prst="ellipse">
            <a:avLst/>
          </a:prstGeom>
          <a:solidFill>
            <a:srgbClr val="f6bf69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60880" y="4670280"/>
            <a:ext cx="42840" cy="478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73600" y="3889440"/>
            <a:ext cx="619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97440" y="374976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85000" y="3398760"/>
            <a:ext cx="63360" cy="716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497560" y="341136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00640" y="381960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97560" y="397044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000760" y="460224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51520" y="430992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17800" y="3551400"/>
            <a:ext cx="42840" cy="45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55880" y="3621240"/>
            <a:ext cx="428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755880" y="3200400"/>
            <a:ext cx="42840" cy="493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622680" y="3330720"/>
            <a:ext cx="61920" cy="680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81520" y="3271680"/>
            <a:ext cx="41040" cy="478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43440" y="334152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0360" y="304956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07040" y="3049560"/>
            <a:ext cx="601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16280" y="3540240"/>
            <a:ext cx="63720" cy="69840"/>
          </a:xfrm>
          <a:prstGeom prst="ellipse">
            <a:avLst/>
          </a:prstGeom>
          <a:solidFill>
            <a:srgbClr val="f4b552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07040" y="3119400"/>
            <a:ext cx="601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67160" y="3189240"/>
            <a:ext cx="63720" cy="71640"/>
          </a:xfrm>
          <a:prstGeom prst="ellipse">
            <a:avLst/>
          </a:prstGeom>
          <a:solidFill>
            <a:srgbClr val="f4b552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30880" y="326088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30880" y="3330720"/>
            <a:ext cx="61920" cy="68040"/>
          </a:xfrm>
          <a:prstGeom prst="ellipse">
            <a:avLst/>
          </a:prstGeom>
          <a:solidFill>
            <a:srgbClr val="f4b552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367160" y="284004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552920" y="277020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45120" y="284004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70360" y="2840040"/>
            <a:ext cx="619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16280" y="2000160"/>
            <a:ext cx="6372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52920" y="2139840"/>
            <a:ext cx="6336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92800" y="2209680"/>
            <a:ext cx="60120" cy="69840"/>
          </a:xfrm>
          <a:prstGeom prst="ellipse">
            <a:avLst/>
          </a:prstGeom>
          <a:solidFill>
            <a:srgbClr val="fde3ba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76880" y="2500200"/>
            <a:ext cx="10620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93960" y="2362320"/>
            <a:ext cx="1047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43440" y="2500200"/>
            <a:ext cx="41040" cy="493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43440" y="257184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81520" y="257184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1520" y="2500200"/>
            <a:ext cx="41040" cy="493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43440" y="2641680"/>
            <a:ext cx="41040" cy="475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960" bIns="-12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05360" y="2500200"/>
            <a:ext cx="41040" cy="493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1880" bIns="-11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943440" y="2430360"/>
            <a:ext cx="41040" cy="478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2600" bIns="-12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943440" y="2362320"/>
            <a:ext cx="41040" cy="4608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3840" y="2279520"/>
            <a:ext cx="61920" cy="716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051520" y="2279520"/>
            <a:ext cx="61920" cy="716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98840" y="326088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35480" y="3330720"/>
            <a:ext cx="63360" cy="680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35480" y="347040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89600" y="361008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52920" y="263052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367160" y="3119400"/>
            <a:ext cx="637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2920" y="326088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52920" y="3470400"/>
            <a:ext cx="63360" cy="69840"/>
          </a:xfrm>
          <a:prstGeom prst="ellipse">
            <a:avLst/>
          </a:prstGeom>
          <a:solidFill>
            <a:srgbClr val="f5b757"/>
          </a:solidFill>
          <a:ln w="127080">
            <a:solidFill>
              <a:srgbClr val="fda2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03840" y="347040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113440" y="297972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295880" y="2895480"/>
            <a:ext cx="219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441520" y="40305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751120" y="43797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940120" y="5919840"/>
            <a:ext cx="601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00240" y="6269040"/>
            <a:ext cx="61920" cy="71280"/>
          </a:xfrm>
          <a:prstGeom prst="ellipse">
            <a:avLst/>
          </a:prstGeom>
          <a:solidFill>
            <a:srgbClr val="00cc00"/>
          </a:solidFill>
          <a:ln w="101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89600" y="430992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97440" y="4100400"/>
            <a:ext cx="63720" cy="684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861160" y="4100400"/>
            <a:ext cx="61920" cy="684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973840" y="40165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23080" y="424008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48360" y="40305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07080" y="4938840"/>
            <a:ext cx="61920" cy="7128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419880" y="4519440"/>
            <a:ext cx="63360" cy="716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56520" y="437976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45160" y="37497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07080" y="3330720"/>
            <a:ext cx="61920" cy="680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730920" y="374976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735520" y="381960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797440" y="3610080"/>
            <a:ext cx="637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11680" y="3330720"/>
            <a:ext cx="61920" cy="680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00640" y="3470400"/>
            <a:ext cx="6336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300640" y="3330720"/>
            <a:ext cx="63360" cy="680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17760" y="5308560"/>
            <a:ext cx="961560" cy="7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5160" rIns="65160" tIns="25560" bIns="2556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新細明體"/>
              </a:rPr>
              <a:t>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-20%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&lt;10%</a:t>
            </a:r>
            <a:endParaRPr b="0" lang="en-US" sz="19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33520" y="5416560"/>
            <a:ext cx="23760" cy="2556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393920" y="5581800"/>
            <a:ext cx="104760" cy="117360"/>
          </a:xfrm>
          <a:prstGeom prst="ellipse">
            <a:avLst/>
          </a:prstGeom>
          <a:solidFill>
            <a:srgbClr val="f6bf69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33520" y="583740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68280" y="5230800"/>
            <a:ext cx="1100160" cy="817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440" y="4100400"/>
            <a:ext cx="61920" cy="684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30760" y="1916280"/>
            <a:ext cx="23760" cy="236520"/>
          </a:xfrm>
          <a:prstGeom prst="rect">
            <a:avLst/>
          </a:prstGeom>
          <a:solidFill>
            <a:srgbClr val="ffffff"/>
          </a:solidFill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41920" y="2139840"/>
            <a:ext cx="61920" cy="6984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91240" y="1986120"/>
            <a:ext cx="237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327400" y="299088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75080" y="4179960"/>
            <a:ext cx="1047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824200" y="4950000"/>
            <a:ext cx="103320" cy="11880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93960" y="4811760"/>
            <a:ext cx="1047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49480" y="565164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57640" y="5721480"/>
            <a:ext cx="10620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46640" y="530064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21000" y="5440320"/>
            <a:ext cx="10332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321000" y="558180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70120" y="3341520"/>
            <a:ext cx="10512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693960" y="313200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1520" y="299088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693960" y="362124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881520" y="383076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817800" y="355140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881520" y="3411360"/>
            <a:ext cx="1029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17800" y="3271680"/>
            <a:ext cx="1047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43440" y="3271680"/>
            <a:ext cx="1029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130640" y="3200400"/>
            <a:ext cx="1047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278136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17800" y="285120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76880" y="2781360"/>
            <a:ext cx="10620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02160" y="271152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40240" y="2152800"/>
            <a:ext cx="103320" cy="1155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502160" y="208116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65520" y="1940040"/>
            <a:ext cx="103320" cy="11880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54480" y="299088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254480" y="3132000"/>
            <a:ext cx="10332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49600" y="324648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486240" y="338616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486240" y="352728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56000" y="310680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603680" y="2616120"/>
            <a:ext cx="255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30760" y="233676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54600" y="233676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791240" y="212580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040360" y="226692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102280" y="303696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541760" y="331776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854600" y="345600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978440" y="35971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51400" y="331776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51400" y="352728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61000" y="331776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978440" y="43657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97280" y="415620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428920" y="40165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00440" y="4435560"/>
            <a:ext cx="2520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989440" y="5905440"/>
            <a:ext cx="219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51000" y="6256440"/>
            <a:ext cx="241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786280" y="3597120"/>
            <a:ext cx="241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786280" y="3875040"/>
            <a:ext cx="241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594480" y="338616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534000" y="3736800"/>
            <a:ext cx="2412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9760" y="3736800"/>
            <a:ext cx="2412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86280" y="4156200"/>
            <a:ext cx="241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7680" y="4087800"/>
            <a:ext cx="2376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73840" y="422604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11920" y="4087800"/>
            <a:ext cx="22320" cy="2556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345360" y="436572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70640" y="4576680"/>
            <a:ext cx="2376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57840" y="4995720"/>
            <a:ext cx="22320" cy="27000"/>
          </a:xfrm>
          <a:prstGeom prst="ellipse">
            <a:avLst/>
          </a:prstGeom>
          <a:solidFill>
            <a:srgbClr val="00cc00"/>
          </a:solidFill>
          <a:ln w="12708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029360" y="5767560"/>
            <a:ext cx="23760" cy="252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48200" y="4297320"/>
            <a:ext cx="25560" cy="2556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657840" y="401652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044960" y="3176640"/>
            <a:ext cx="255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49600" y="3665520"/>
            <a:ext cx="223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927520" y="3317760"/>
            <a:ext cx="23760" cy="2556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78040" y="3317760"/>
            <a:ext cx="22320" cy="2556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440" bIns="-2844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41760" y="4506840"/>
            <a:ext cx="237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11520" y="5067360"/>
            <a:ext cx="2376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74840" y="5346720"/>
            <a:ext cx="241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36760" y="5695920"/>
            <a:ext cx="24120" cy="270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112920" y="5767560"/>
            <a:ext cx="24120" cy="25200"/>
          </a:xfrm>
          <a:prstGeom prst="ellipse">
            <a:avLst/>
          </a:prstGeom>
          <a:solidFill>
            <a:srgbClr val="fc0128"/>
          </a:solidFill>
          <a:ln w="12708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8800" bIns="-28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310360" y="383076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060880" y="4321080"/>
            <a:ext cx="1065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37040" y="453060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60880" y="4670280"/>
            <a:ext cx="1065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89360" y="565164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34240" y="341136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621400" y="383076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808600" y="369108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243480" y="4111560"/>
            <a:ext cx="10332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5400" y="446076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369120" y="4670280"/>
            <a:ext cx="1029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804000" y="355140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64480" y="362124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053120" y="362124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804000" y="397044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04000" y="4251240"/>
            <a:ext cx="10332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053120" y="579132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299360" y="5721480"/>
            <a:ext cx="10620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746680" y="3970440"/>
            <a:ext cx="10332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36040" y="579132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674120" y="5931000"/>
            <a:ext cx="1047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376880" y="3271680"/>
            <a:ext cx="10620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502160" y="341136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520" y="3481560"/>
            <a:ext cx="103320" cy="1155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920" bIns="349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81520" y="264168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17800" y="2500200"/>
            <a:ext cx="1047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943440" y="2500200"/>
            <a:ext cx="102960" cy="1177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360" bIns="3636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1520" y="2362320"/>
            <a:ext cx="1029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43440" y="2362320"/>
            <a:ext cx="102960" cy="11592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316400" y="3200400"/>
            <a:ext cx="104760" cy="1191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800" bIns="3780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12200" y="6000840"/>
            <a:ext cx="102960" cy="117360"/>
          </a:xfrm>
          <a:prstGeom prst="ellipse">
            <a:avLst/>
          </a:prstGeom>
          <a:solidFill>
            <a:srgbClr val="fde3ba"/>
          </a:solidFill>
          <a:ln w="25560">
            <a:solidFill>
              <a:srgbClr val="ef9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720" bIns="36720" anchor="ctr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-76320" y="228600"/>
            <a:ext cx="84981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Arial"/>
              </a:rPr>
              <a:t>Variazione della prevalenza della rinite stagionale in Italia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473400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4535640"/>
            <a:ext cx="184320" cy="457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71560" y="59641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253800" indent="-25380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63de8"/>
                </a:solidFill>
                <a:latin typeface="Arial"/>
              </a:rPr>
              <a:t>Galassi C. .</a:t>
            </a:r>
            <a:r>
              <a:rPr b="1" lang="it-IT" sz="1600" spc="-1" strike="noStrike">
                <a:solidFill>
                  <a:srgbClr val="063de8"/>
                </a:solidFill>
                <a:latin typeface="Arial"/>
              </a:rPr>
              <a:t>Changes in prevalence of asthma and allergies among children and adolescents in Italy: 1994-2002. </a:t>
            </a:r>
            <a:r>
              <a:rPr b="1" lang="en-US" sz="1600" spc="-1" strike="noStrike">
                <a:solidFill>
                  <a:srgbClr val="063de8"/>
                </a:solidFill>
                <a:latin typeface="Arial"/>
              </a:rPr>
              <a:t>Pediatrics 2006; 117:34-42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324000" y="1305000"/>
          <a:ext cx="8386560" cy="1968480"/>
        </p:xfrm>
        <a:graphic>
          <a:graphicData uri="http://schemas.openxmlformats.org/drawingml/2006/table">
            <a:tbl>
              <a:tblPr/>
              <a:tblGrid>
                <a:gridCol w="2914560"/>
                <a:gridCol w="1493640"/>
                <a:gridCol w="1632240"/>
                <a:gridCol w="2346120"/>
              </a:tblGrid>
              <a:tr h="655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Sintomi di rinite negli ultimi 12 mesi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1994-95*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2001-02*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Variazione %*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</a:tr>
              <a:tr h="662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Bambini di 6-7 anni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13.8%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18.9%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+5.2 (4.0-6.4)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</a:tr>
              <a:tr h="64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Adolescenti di 13-14 anni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31.6%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35.1%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+4.1 (1.9-6.3)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4180680" y="4916520"/>
            <a:ext cx="135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66"/>
                </a:solidFill>
                <a:latin typeface="Arial"/>
                <a:ea typeface="Times New Roman"/>
              </a:rPr>
              <a:t>* % (95% CI)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325440" y="3587760"/>
          <a:ext cx="8386920" cy="2122560"/>
        </p:xfrm>
        <a:graphic>
          <a:graphicData uri="http://schemas.openxmlformats.org/drawingml/2006/table">
            <a:tbl>
              <a:tblPr/>
              <a:tblGrid>
                <a:gridCol w="2914560"/>
                <a:gridCol w="1494000"/>
                <a:gridCol w="1631880"/>
                <a:gridCol w="2346480"/>
              </a:tblGrid>
              <a:tr h="707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Pollinosi nella vita 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1994-95*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2001-02*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Variazione %*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</a:tr>
              <a:tr h="71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Bambini di 6-7 anni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6.3%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9.0%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+2.7 (1.9-3.6)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</a:tr>
              <a:tr h="70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Adolescenti di 13-14 anni</a:t>
                      </a:r>
                      <a:endParaRPr b="0" lang="en-US" sz="18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14.4%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17.2%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063de8"/>
                          </a:solidFill>
                          <a:latin typeface="Arial"/>
                        </a:rPr>
                        <a:t>+2.8 (1.5-4.1)</a:t>
                      </a:r>
                      <a:endParaRPr b="0" lang="en-US" sz="20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solidFill>
                      <a:srgbClr val="c0c0c0">
                        <a:alpha val="34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9" name=""/>
          <p:cNvGraphicFramePr/>
          <p:nvPr/>
        </p:nvGraphicFramePr>
        <p:xfrm>
          <a:off x="433440" y="1700280"/>
          <a:ext cx="8170920" cy="3533760"/>
        </p:xfrm>
        <a:graphic>
          <a:graphicData uri="http://schemas.openxmlformats.org/drawingml/2006/table">
            <a:tbl>
              <a:tblPr/>
              <a:tblGrid>
                <a:gridCol w="3179880"/>
                <a:gridCol w="2266920"/>
                <a:gridCol w="2724120"/>
              </a:tblGrid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6-7  ann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3-14 ann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1368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intomi di rinite negli ultimi 12 mes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549.80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553.58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intomi di rinocongiuntivite negli ultimi 12 mes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58.96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430.28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5760">
                      <a:solidFill>
                        <a:srgbClr val="0000ff"/>
                      </a:solidFill>
                    </a:lnB>
                    <a:noFill/>
                  </a:tcPr>
                </a:tc>
              </a:tr>
              <a:tr h="75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ollinosi nella vita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739.80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576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.413.840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ff"/>
                      </a:solidFill>
                    </a:lnL>
                    <a:lnR w="13680">
                      <a:solidFill>
                        <a:srgbClr val="0000ff"/>
                      </a:solidFill>
                    </a:lnR>
                    <a:lnT w="5760">
                      <a:solidFill>
                        <a:srgbClr val="0000ff"/>
                      </a:solidFill>
                    </a:lnT>
                    <a:lnB w="1368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0" name=""/>
          <p:cNvSpPr/>
          <p:nvPr/>
        </p:nvSpPr>
        <p:spPr>
          <a:xfrm>
            <a:off x="941400" y="55897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Galassi C. .</a:t>
            </a:r>
            <a:r>
              <a:rPr b="1" lang="it-IT" sz="1400" spc="-1" strike="noStrike">
                <a:solidFill>
                  <a:srgbClr val="0000ff"/>
                </a:solidFill>
                <a:latin typeface="Arial"/>
              </a:rPr>
              <a:t>Changes in prevalence of asthma and allergies among children and adolescents in Italy: 1994-2002. </a:t>
            </a: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Pediatrics 2006; 117:34-42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-914400" y="685800"/>
            <a:ext cx="962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ff"/>
                </a:solidFill>
                <a:latin typeface="Arial"/>
              </a:rPr>
              <a:t>Quanti bambini hanno rinite stagionale in Italia</a:t>
            </a:r>
            <a:br>
              <a:rPr sz="2500"/>
            </a:br>
            <a:r>
              <a:rPr b="0" lang="en-US" sz="2100" spc="-1" strike="noStrike">
                <a:solidFill>
                  <a:srgbClr val="0000ff"/>
                </a:solidFill>
                <a:latin typeface="Arial"/>
              </a:rPr>
              <a:t>popolazione totale: 57.888.000; popolazione 0-14:  8.220.000</a:t>
            </a:r>
            <a:endParaRPr b="0" lang="en-US" sz="21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0" y="6109200"/>
            <a:ext cx="871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"/>
              </a:rPr>
              <a:t>Eurostat, First demographic estimates 2006. ww.europa.eu.int/comm/eurostat/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07T19:24:49Z</dcterms:created>
  <dc:creator>Bousquet</dc:creator>
  <dc:description/>
  <cp:keywords/>
  <dc:language>en-US</dc:language>
  <cp:lastModifiedBy>Corbetta Lorenzo</cp:lastModifiedBy>
  <cp:lastPrinted>2009-04-22T19:24:48Z</cp:lastPrinted>
  <dcterms:modified xsi:type="dcterms:W3CDTF">2006-08-30T08:25:56Z</dcterms:modified>
  <cp:revision>102</cp:revision>
  <dc:subject/>
  <dc:title>Presentazione di PowerPoint</dc:title>
</cp:coreProperties>
</file>